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4DAC-D1C4-4684-AC73-248F87B23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4138-0D6C-4F22-9176-CD81ECA9F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A76-13D8-4D82-B6F2-6A4994C2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876-776A-43CD-A4DB-59FF4D08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63F-8C4A-45F2-8A1D-6AFC364D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0C1-15DF-4976-8A69-82A589C8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3DCA-8D54-461E-83E0-A8E54828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CCE3-D1B1-42E1-B3F6-A2A33DDB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764D-0F26-400D-9446-A295F68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A12E-803A-4B1C-9608-C719E04D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335-BF5F-459D-96B5-D81D843D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A5EF-E641-4484-A1F2-B621066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E47A-E41B-4314-A76F-FB73583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06E-8FB9-4DD2-9CCC-168A5E5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A17-21E6-4E81-96D4-1628C07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0583-B438-4B36-9B99-EDF9E502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26A-D934-4711-8B6E-68A48069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C7DD-B9D6-479C-BD0F-40C9BD41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838-3A54-4CB4-B8DE-0D790DC4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A24F-420C-4CCA-95EA-B62991C7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C50C-601D-49BC-BB62-39456C4E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EF9E-3289-42AD-BC24-E166D0A6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87F4-10CF-4529-9592-BF867A82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4D5B-F548-41BF-A259-CBDBAD4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169-0311-424B-8A54-59C228D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D492-959B-491B-8ECD-6C6BA17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6630-B634-4018-9735-B4AF27B4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CA267-4DB3-40F1-BD7B-DF216D5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723F-C3E2-499F-A60E-6FA88D5B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69C9-23AB-4923-84C6-6E55E06A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C700-8584-4EC5-B11A-DB45B8A7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3BBBB-D2CC-4426-A343-8FBDD325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8E72-14F2-4877-8C31-BF7E354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BE0F-0504-4EC5-90A0-B49DC95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7F1A-3CFA-4F07-876B-AA3B9505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61B-06DD-42E7-9AA8-29E8DE2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99D2-85E4-4B0A-AFA1-A750926B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1A3A-D394-4B6B-81B7-D5A0276A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D341-C3D8-4ED1-832B-16192F71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7FCFD-CB1B-460B-8C47-284D98D3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7A36-661D-4C1C-9C0E-A7D377B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DAD0-1992-4ABF-9520-98ED7EE6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37CE-DDCD-4CE8-ABBC-D82F5BE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FEF1-1EAD-482F-96D9-9C36CB6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A4296-5FEF-429C-975D-0BD76116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305-A76F-4670-9B87-B6B142BA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94E-4325-4ED3-B04B-5E488EE4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43E-A8DB-4F5A-B8B4-77ECE1A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202-C033-4627-8B88-97BCE40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402-71BF-4769-8424-A7216E7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1F7F-9EA1-4AB9-8C7A-4C576BF79B91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8DFE-B872-4197-806F-3C2826370E0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33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831E-458C-4003-88A8-FA6142FD642B}" type="slidenum">
              <a:rPr b="0" lang="ru-RU" sz="1200" spc="-1" strike="noStrike">
                <a:solidFill>
                  <a:srgbClr val="cc33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B8D-101B-4A1D-BF16-5DEB3EBBFEC0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D1F7-7CC9-47CA-BF07-2B47040F451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cc33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cc33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33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BE5-1D66-49DD-ADCD-4762EA72F3B4}" type="slidenum">
              <a:rPr b="0" lang="ru-RU" sz="1200" spc="-1" strike="noStrike">
                <a:solidFill>
                  <a:srgbClr val="cc33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DAB3-0251-4E41-BDB9-836F5817123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457200" y="444600"/>
            <a:ext cx="822960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C72A-5251-413B-8B4B-C7ABDF6F65A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 Б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</a:t>
            </a:r>
            <a:r>
              <a:rPr b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клиент-сервер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рвер, выделенный для хра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ой  БД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 обработку клиентских запрос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енты получают по сети уже обработанные данны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езультате упрощается написание программ – клиентов. Кроме того, к серверу может обращаться любое количество клиент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MS SQL Server, Ora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9A8F-C50C-4755-84A1-1BBAEEC551F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дром любой БД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дель представления дан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реляционную модель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оторой данные организованы  в вид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мерных таб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ляционная модель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наиболее универсальной, к ней могу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ть сведены другие мод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519-F6C4-45BE-AA3B-A4389D92B57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713880"/>
            <a:ext cx="91440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ая реляционная таблица должна обладать следующими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элемент таблицы – один элемент данны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столбцы содержат однородные по типу данные (целочисленный,  числовой, текстовый и т.д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столбец имеет уникальное им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ло столбцов задается при создании таблиц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рядок записей в таблице может быть произвольны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си не должны повторятьс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записей в таблице не ограниче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CCAF-A846-4B90-8309-62F3F6FF0D1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реляционной таблице каждый столбец называется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по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его альтернативное назван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ме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элементов каждой строки называется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записью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(иначе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е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ка заголовков называется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схемой 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схемой отношения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ет быть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ФАМИЛИЯ, ИМЯ, ОТЧЕСТВО, ФАКУЛЬТЕТ, КУРС, ГРУППА)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е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 ФАМИЛИЯ, ИМЯ и т.д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ACD0-3723-496E-A848-A10175D45DC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124000" y="2500200"/>
          <a:ext cx="6912000" cy="2800440"/>
        </p:xfrm>
        <a:graphic>
          <a:graphicData uri="http://schemas.openxmlformats.org/drawingml/2006/table">
            <a:tbl>
              <a:tblPr/>
              <a:tblGrid>
                <a:gridCol w="1639800"/>
                <a:gridCol w="812880"/>
                <a:gridCol w="1403280"/>
                <a:gridCol w="2235240"/>
                <a:gridCol w="820800"/>
              </a:tblGrid>
              <a:tr h="60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Т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АКУЛЬ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ндр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ори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структо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ковл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хнолог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Прямоугольник 3"/>
          <p:cNvSpPr/>
          <p:nvPr/>
        </p:nvSpPr>
        <p:spPr>
          <a:xfrm>
            <a:off x="500040" y="714240"/>
            <a:ext cx="22860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ношение 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Вся табли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3286080" y="714240"/>
            <a:ext cx="22147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хема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строка заголов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000840" y="714240"/>
            <a:ext cx="242892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отдельные заголов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3357720"/>
            <a:ext cx="2000160" cy="785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рока (запись, корте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>
            <a:off x="1928880" y="1857240"/>
            <a:ext cx="15714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1"/>
          <p:cNvSpPr/>
          <p:nvPr/>
        </p:nvSpPr>
        <p:spPr>
          <a:xfrm>
            <a:off x="7572240" y="1857240"/>
            <a:ext cx="78588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 flipH="1">
            <a:off x="6428880" y="1857240"/>
            <a:ext cx="11430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6"/>
          <p:cNvSpPr/>
          <p:nvPr/>
        </p:nvSpPr>
        <p:spPr>
          <a:xfrm flipH="1">
            <a:off x="5357520" y="1857240"/>
            <a:ext cx="22143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 flipH="1">
            <a:off x="4214880" y="1857240"/>
            <a:ext cx="33573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>
            <a:off x="3499920" y="1857240"/>
            <a:ext cx="40719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>
            <a:off x="1571760" y="4071960"/>
            <a:ext cx="928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DDC8-E4AF-470B-99BF-6897905E015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285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м ключо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зывается поле или группа полей,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означно определяющие запис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е </a:t>
            </a:r>
            <a:r>
              <a:rPr b="0" lang="ru-RU" sz="26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ервичным ключом может быть пол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если во всем списке нет однофамильцев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то будет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стой клю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есть однофамильцы, т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, имя, отчество – создаду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ставной первичный ключ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04D-4C53-4213-8D27-2216F4B5B9B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128592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 практике обычно в качеств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лючевог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ыбирают поле, в котором совпадения заведомо исключ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ким полем может служить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омер зачетной книжк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туден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D28E-E46E-4023-85DE-AC0D162DEFA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первичного ключа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в таблице может быть назнач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лько од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й ключ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составного ключа поля могут повторяться, но не вс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избыт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не должно быть полей, которые можно удалить из первичного ключа, при этом не нарушится его уникальн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87FE-4FAE-40DD-AE2E-5C179729978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9720"/>
            <a:ext cx="9144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вязывание табли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бы избежать повторяющихся записей, приходят 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языванию табл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таблицу СТУДЕНТ включить пол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ЕНТ (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42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ЧЕСТВО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УЛЬТЕТ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УППА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НАЗВАНИЕ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ДРЕС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70D-21B9-4001-8B01-7892463FCFA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 при заполнении таблиц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ля каждого студ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дется указывать длинное наименование вуза и его адре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ая незначительная ошибка при вводе информации в эти поля приведет к нарушению непротиворечивости базы данны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шибка в адресе вуза приведет к тому, что появятся два вуза с одинаковым наименованием и разными адрес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упают в таком случае так: в таблицу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водят п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д вуза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целое число) и добавля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ще одну таблицу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вуз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с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C71-8D03-4936-8967-00A9C1BE5B2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4617b"/>
                </a:solidFill>
                <a:latin typeface="Arial"/>
              </a:rPr>
              <a:t>Принципы проектирования информационных систем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С) –— совокупность содержащейся в базах данных информации и обеспечивающих её обработку информационных технологий и технических средств (Федеральный закон РФ от 27 июля 2006 года № 149-ФЗ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им относятся: поисковые, справочные, банковские системы, САПР и друг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а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ажнейший компонент любой информационной систе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структурированная информаци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не только беспроблемно эксплуатировать систему , но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ифицир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, а также и развивать ее при модернизации предприятия, законодательства и форм отчет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8CD-5E54-4D5A-A8B6-DDE0903FD2F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83763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этом будут связаны по полю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ФАМИЛИЯ, ИМЯ, ОТЧЕСТВО, ФАКУЛЬТЕТ, КУРС, ГРУППА,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ЗВАНИЕ, АДРЕС, ТЕЛЕФОН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работе с такими таблицами повторяться могут только данные в поле «КОД вуза», а все необходимые сведения о вузе можно взять из таблицы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,  ввод в поле «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ОД ву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 целого числа вместо длинного названия, принесет гораздо меньше ошиб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е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ВУ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ле «КОД вуза» буд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м ключ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а в таблиц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СТУД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ле «КОД вуза» буд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м ключо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Line 7"/>
          <p:cNvSpPr/>
          <p:nvPr/>
        </p:nvSpPr>
        <p:spPr>
          <a:xfrm flipH="1">
            <a:off x="1979640" y="2573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979640" y="257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5243400" y="223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87AE-E355-4CFA-855E-37693F0299F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Модели данных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я связи реляционных таблиц необходимо ввести в обе таблицы одинаковые по типу пол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язи бывают нескольких типов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дин к одному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один ко многим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ногие ко многим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риведенном примере была установлена связь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ко мног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 запись в таблице </a:t>
            </a:r>
            <a:r>
              <a:rPr b="1" lang="ru-RU" sz="2800" spc="-1" strike="noStrike">
                <a:solidFill>
                  <a:srgbClr val="083763"/>
                </a:solidFill>
                <a:latin typeface="Arial"/>
                <a:ea typeface="Arial"/>
              </a:rPr>
              <a:t>ВУ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многие записи в таблице </a:t>
            </a:r>
            <a:r>
              <a:rPr b="0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СТУД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59" name="Прямая со стрелкой 2"/>
          <p:cNvCxnSpPr/>
          <p:nvPr/>
        </p:nvCxnSpPr>
        <p:spPr>
          <a:xfrm>
            <a:off x="5219640" y="6021000"/>
            <a:ext cx="505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0" name="Прямая со стрелкой 5"/>
          <p:cNvCxnSpPr/>
          <p:nvPr/>
        </p:nvCxnSpPr>
        <p:spPr>
          <a:xfrm>
            <a:off x="5219640" y="6021000"/>
            <a:ext cx="5054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85F1-ED8A-4D88-9061-2D51254FA20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Анализ предметной област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713880"/>
            <a:ext cx="91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тирование баз данных начин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анализа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в которой будет работать И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такой работы является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техническое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зад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азработку И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техническом задании строго указывае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с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х и выходных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исок запро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 ИС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говаривается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пределяющий переход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р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ения  данных в Б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представлению, принятому сред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логическом уровне соста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й список по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может насчитывать от единиц до тысяч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сывают каждое поле п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у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щий список полей разби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ные таблиц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6D0C-CFAB-4CF8-8221-11C5EACFD42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Нормализация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азбиение –основных таблиц на более мелкие с целью избежать многократно повторяющихся данных в запися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ое разбиение уменьшает объем памяти, занимаемый базой данных на диске, и обеспечивае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противоречив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анных в Б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нормализации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ерацио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шаговый) характер, осуществляется метод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ьных фор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819F-F827-44ED-A4F9-B83BC7FAD51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Нормализ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856800"/>
            <a:ext cx="8964720" cy="55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вая нормальная фо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блица называется приведенной к первой нормальной форме, если все ее атрибуты неделим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таблица, содержащая поле ФИО, не приведена к первой нормальной форме, если в запросах БД требуется выдать отдельно фамилию или имя. Разработчики Б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нач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троят так исходную таблицу, что бы она была в первой нормальной фор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нормализации заканчивается созданием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схемы данных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хеме указываются вс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изова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аблицы с их полями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заимосвяз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ежду ни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азываются типы взаимосвяз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цептуальная  (Инфологическая)  мод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ы данных включает в себя описание информационных объектов и связей между ни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F5D7-8A00-45EC-93A7-9A0C688D1C6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4617b"/>
                </a:solidFill>
                <a:latin typeface="Arial"/>
                <a:ea typeface="Arial"/>
              </a:rPr>
              <a:t>Схема данных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льнейшая работа над проектом связана с конкретной СУБД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рассмотрим эту часть на примере СУБД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S 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разработ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Б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системой управления базами д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ляционного тип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ю базу данных по умолча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ранит на диске в виде одного файла с расшир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*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cd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*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d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ля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03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ные хранятся в виде таблиц, строки которых состоят из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  <a:ea typeface="Arial"/>
              </a:rPr>
              <a:t>наборов по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ённых тип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каждой таблицей могут быть связаны индексы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ю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5B1-4D7D-4DF9-8071-D138B0FAA31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85920" y="-192960"/>
            <a:ext cx="59292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Arial"/>
                <a:ea typeface="Times New Roman"/>
              </a:rPr>
              <a:t>Проектирование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могут иметь однотипные поля и это позволяет устанавливать между ними связ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ичными операциями на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являютс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таблиц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создание, модификация, удаление таблиц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вод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таблицы непосредственно или с помощью </a:t>
            </a:r>
            <a:r>
              <a:rPr b="0" i="1" lang="ru-RU" sz="2800" spc="-1" strike="noStrike">
                <a:solidFill>
                  <a:srgbClr val="cc0099"/>
                </a:solidFill>
                <a:latin typeface="Arial"/>
                <a:ea typeface="Arial"/>
              </a:rPr>
              <a:t>фор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оиск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таблицах по определенным критериям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запр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Создание отче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 содержим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DDA-0F3B-41B6-ADF8-27D5812BEBE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85920" y="-192960"/>
            <a:ext cx="59292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Arial"/>
                <a:ea typeface="Times New Roman"/>
              </a:rPr>
              <a:t>Проектирование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начинается с определения реляционных таблиц и их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лей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 указанием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типов по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т.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кета табл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таблиц предпочтительней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жиме конструктор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рабочего ок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лен на след. слайд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55CA-820C-4BC0-AAFC-81035F592E9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108000" y="0"/>
            <a:ext cx="10910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A2F-0462-46E5-9D26-1E70043DAAD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Содержимое 4" descr=""/>
          <p:cNvPicPr/>
          <p:nvPr/>
        </p:nvPicPr>
        <p:blipFill>
          <a:blip r:embed="rId1"/>
          <a:srcRect l="0" t="0" r="1377" b="4262"/>
          <a:stretch/>
        </p:blipFill>
        <p:spPr>
          <a:xfrm>
            <a:off x="-757080" y="-171360"/>
            <a:ext cx="12169440" cy="74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788C-CF91-4201-B415-906AD65B90B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Arial"/>
              </a:rPr>
              <a:t>Принципы проектирования информационных систе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енный цикл разработки слож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ывается из этап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поставленной задач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я и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ирования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я и сопрово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есь задаются 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  <a:ea typeface="Arial"/>
              </a:rPr>
              <a:t>имена полей 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же находи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дактор свойст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й, где ук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пол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ли пол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сто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его длин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ислов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тип целый или вещественный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щелчок по полю ввод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«размер пол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иведёт к появлению указателя списка 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завершении создания таблиц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ётся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имя табл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A9B8-FFFE-4119-95A7-A0C83F5404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чало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9080" y="1599840"/>
            <a:ext cx="53802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уск → Программы →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icrosoft Office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icrosoft Acces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айл → Создать → Новая база данны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63440" indent="-16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дать имя создаваемой базе и сохранить на диск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Таблиц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алее определяются реляционные связи между таблицами        открывается окно «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Схема данны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кне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обавление таблиц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 выбираем таблицы, которые следует связ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тем методом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етаски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указываем связываемые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л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вершается этот этап нажатием кнопки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816-F390-46D7-A0F6-76994B3415A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2"/>
          <p:cNvCxnSpPr/>
          <p:nvPr/>
        </p:nvCxnSpPr>
        <p:spPr>
          <a:xfrm>
            <a:off x="2626920" y="1988640"/>
            <a:ext cx="577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Окно «Изменений связей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0FB-7BE1-4790-B8C5-4B718FC0D58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1"/>
          <a:srcRect l="21452" t="20930" r="37847" b="44966"/>
          <a:stretch/>
        </p:blipFill>
        <p:spPr>
          <a:xfrm>
            <a:off x="785880" y="1357200"/>
            <a:ext cx="78897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0" y="785520"/>
            <a:ext cx="91440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 разумном подходе к проектированию баз данных пользователи не получают прямой доступ к базовым таблицам, а делают это посредством </a:t>
            </a:r>
            <a:r>
              <a:rPr b="0" i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запро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росы - это основное средств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мотра, изменения и анализ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и, которая содержится в одной или в нескольких таблицах базы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Запрос можно использова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дмножества запис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без предварительного открытия этой таблицы 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объединения в одну таблицу данных из нескольких таблиц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х поле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аблиц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я вычислени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д значениями по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03E2-DA1A-43FE-8819-30643897305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0" y="785520"/>
            <a:ext cx="91440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ссмотрим создание запроса на выборку с помощью </a:t>
            </a:r>
            <a:r>
              <a:rPr b="1" lang="ru-RU" sz="2400" spc="-1" strike="noStrike">
                <a:solidFill>
                  <a:srgbClr val="750000"/>
                </a:solidFill>
                <a:latin typeface="Verdana"/>
                <a:ea typeface="Times New Roman"/>
              </a:rPr>
              <a:t>Конструкто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Для создания нового пустого запроса в режиме конструктора надо щелкнуть на пиктограмме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онструктор запросов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адк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9BDF-7D7E-47FA-9CB9-C28775CEEB6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6C5C-0280-474F-9C33-AEC2A33FF19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1"/>
          <p:cNvSpPr/>
          <p:nvPr/>
        </p:nvSpPr>
        <p:spPr>
          <a:xfrm>
            <a:off x="500040" y="2142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1"/>
          <p:cNvSpPr/>
          <p:nvPr/>
        </p:nvSpPr>
        <p:spPr>
          <a:xfrm>
            <a:off x="214200" y="0"/>
            <a:ext cx="82296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9ca3"/>
                </a:solidFill>
                <a:latin typeface="Calibri"/>
              </a:rPr>
              <a:t>За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Объект 7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691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7432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Запросы</a:t>
            </a:r>
            <a:br>
              <a:rPr sz="26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2743200" cy="4980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Откроется активное окно диалога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Добавление таблицы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на фоне неактивного окна «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Запрос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Calibri"/>
              </a:rPr>
              <a:t>В этом окне можно выбрать таблицы и готовые запросы для создания новых запро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C5D1-0C16-4264-8D94-4B2DE395813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Объект 6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608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DFAF-7CF1-4570-B2C9-7FB66CC25BA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Окно Конструктора состоит из двух частей – верхней и нижн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верхней части окна размещаетс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хема данных запроса,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которая содержит список связанных таблиц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нижней части окна находитс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Бланк построения запроса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, в котором каждая строка выполняет определенную функци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FB6-5137-4EF8-9066-15ADC68EECC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rcRect l="0" t="0" r="15606" b="3489"/>
          <a:stretch/>
        </p:blipFill>
        <p:spPr>
          <a:xfrm>
            <a:off x="0" y="11592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1A8-CB5F-4415-91A6-80B3F09187E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Структура базы данных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ирование данных рассмотрим на примере студенческой группы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ый член группы во многом индивидуален, и характеризовать его можно с разных сторон. Но деканат, в основном, заинтересуют следующие данные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дметная обла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фамилия студен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им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6fc6"/>
                </a:solidFill>
                <a:latin typeface="Arial"/>
                <a:ea typeface="Arial"/>
              </a:rPr>
              <a:t>отчест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урс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наименование групп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массив оценок по изучаемым дисципли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E90-3C07-49A2-8EBB-4D024844031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вия ограниченного поиска или критерий поиска информации вводится в строке 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Условия отбора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 и строке 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ведем критерий поиска - "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5/A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" в строке "Условия" для поля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Оценка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этом случае в результате выполнения запроса на экране будут отображаться все фамилии студентов, которые получили оценку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5/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Запросы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000080"/>
            <a:ext cx="91440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нами был создан простейший запрос, который называется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прос на выборку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а языке запросов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о образцу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Закрытие запроса сопровождается присвоением ему 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ени,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например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"Успеваемость студентов"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4714-8312-4E79-9C82-E55D08D36D1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Рисунок 4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7632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Запрос с параметром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ические запросы создаются, когда предполагается, что данный запрос придетс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полнять многократно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различных значениях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 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прос с параметром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запрос, при выполнении которого будет выводиться на экран диалоговое окно с приглашением ввести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начени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акого-либо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рамет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ется этот запрос в режиме конструктора, но только в стро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Условия отбор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пол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введем условие отбора в виде приглашения в квадратных скобка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F2E-2B10-4EA2-9E3E-840738F0949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  <a:ea typeface="Arial"/>
              </a:rPr>
              <a:t>Запрос с параметром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 [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ведите фамили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]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в результате выполнения запроса на экране будет отображатьс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амил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студента и все дисциплины, по которым он получил оценк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380-E404-4C73-8D02-687A872E00F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4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7775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тч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ы для печати данных, содержащихся в таблицах и запросах, в красиво оформленном в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создания отчётов рационально воспользоваться 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Мастером отчётов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база данных </a:t>
            </a:r>
            <a:r>
              <a:rPr b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СОЗДА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►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НОВЫЙ ОТЧЁ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ть отчёт, созданный </a:t>
            </a:r>
            <a:r>
              <a:rPr b="0" lang="ru-RU" sz="2600" spc="-1" strike="noStrike">
                <a:solidFill>
                  <a:srgbClr val="990099"/>
                </a:solidFill>
                <a:latin typeface="Arial"/>
                <a:ea typeface="Arial"/>
              </a:rPr>
              <a:t>Мастер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можно с помощью </a:t>
            </a:r>
            <a:r>
              <a:rPr b="0" lang="ru-RU" sz="2600" spc="-1" strike="noStrike">
                <a:solidFill>
                  <a:srgbClr val="00b050"/>
                </a:solidFill>
                <a:latin typeface="Arial"/>
                <a:ea typeface="Arial"/>
              </a:rPr>
              <a:t>конструкто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14F7-B3FE-4EA4-A1F5-AD7DF8DCCBF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Структура базы данных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из всего многообразия данных выбираются только некотор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мод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бъ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нные упорядочиваются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порядку следования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применяемым типам (форматам) данных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 чего они могут быть обработаны компьюте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0D3A-6BB8-411B-AE1C-92C694A0BEA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Понятие структуры БД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структурированных данных, относящихся к од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ой обла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называется </a:t>
            </a:r>
            <a:r>
              <a:rPr b="1" i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базой данных(БД)</a:t>
            </a:r>
            <a:r>
              <a:rPr b="1" lang="ru-RU" sz="2800" spc="-1" strike="noStrike">
                <a:solidFill>
                  <a:srgbClr val="0f6fc6"/>
                </a:solidFill>
                <a:latin typeface="Arial"/>
                <a:ea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 программ,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их управление и 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Д в удобной для пользователя форме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ой управления базой данных  (СУБ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3E3-8C91-4F93-93D6-9660FC61DBB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БД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и обработ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ных БД подразделяются на </a:t>
            </a:r>
            <a:r>
              <a:rPr b="0" i="1" lang="ru-RU" sz="2400" spc="-1" strike="noStrike">
                <a:solidFill>
                  <a:srgbClr val="990099"/>
                </a:solidFill>
                <a:latin typeface="Arial"/>
                <a:ea typeface="Arial"/>
              </a:rPr>
              <a:t>централизован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аспределен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изованн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ранится целиком в памяти одной вычислительной систем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енная Б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нескольких, возможно пересекающихся или дублирующих друг друга БД, хранимых в памяти разных вычислительных систем, объединенных в сет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ённу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у баз данных можно рассматривать как партнёрство между отдельными локальными СУБД на отдельных локальных узлах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56B-002C-4232-B4AA-E9F49F7577D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</a:t>
            </a:r>
            <a:r>
              <a:rPr b="0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 БД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способу доступа к данны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Д распределяются на </a:t>
            </a:r>
            <a:r>
              <a:rPr b="0" i="1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локальный и удаленны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етевой) доступ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ьны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ступ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правления обрабатывает БД, которая хранится на том же компьютер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аленны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осту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это обращение к БД, которая хранится на одном из компьютеров с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F9B-7041-4F78-ACA1-5A1ECCB861C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  <a:ea typeface="Arial"/>
              </a:rPr>
              <a:t>Классификация БД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07560"/>
            <a:ext cx="9144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аленный доступ может быть выполнен по принципу </a:t>
            </a:r>
            <a:r>
              <a:rPr b="0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файл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ru-RU" sz="2400" spc="-1" strike="noStrike">
                <a:solidFill>
                  <a:srgbClr val="0b5395"/>
                </a:solidFill>
                <a:latin typeface="Arial"/>
                <a:ea typeface="Arial"/>
              </a:rPr>
              <a:t>клиент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айл-серв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дполагает выделение одного из компьютеров сети (сервер) для хранения централизованной Б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остальные компьютеры сети (клиенты) исполняют роль рабочих станций. Они копируют требуемую часть централизованной БД в свою память и обрабатывают информацию на мес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увеличивается нагрузка на каналы се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приводит к снижению производительности ИС в цел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ом такой архитектуры БД является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Microsoft Access</a:t>
            </a:r>
            <a:r>
              <a:rPr b="0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3:04Z</dcterms:created>
  <dc:creator>данилова</dc:creator>
  <dc:description/>
  <dc:language>en-US</dc:language>
  <cp:lastModifiedBy>Наталья</cp:lastModifiedBy>
  <dcterms:modified xsi:type="dcterms:W3CDTF">2020-12-08T12:44:16Z</dcterms:modified>
  <cp:revision>91</cp:revision>
  <dc:subject/>
  <dc:title>База данных</dc:title>
</cp:coreProperties>
</file>