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1.wmf" ContentType="image/x-wmf"/>
  <Override PartName="/ppt/media/image26.png" ContentType="image/png"/>
  <Override PartName="/ppt/media/image7.png" ContentType="image/png"/>
  <Override PartName="/ppt/media/image15.wmf" ContentType="image/x-wmf"/>
  <Override PartName="/ppt/media/image27.png" ContentType="image/png"/>
  <Override PartName="/ppt/media/image12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35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3.gif" ContentType="image/gif"/>
  <Override PartName="/ppt/media/image16.png" ContentType="image/pn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8F14-E743-4EF1-ABAA-1FEC86AEE8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E79E-565C-495B-AE92-44C2223367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20BE-8324-48D0-9C60-B54BBC8DF1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99EE-2D76-4702-86B0-79E978288D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065D-3437-4712-A2DF-4707F82463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BE2C-0149-4924-A775-65BDAE8499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04994-BBCE-45A2-AB91-ACD37A0C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533EB-E01E-4854-A13F-B67393CC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DFC9E-12CD-484B-AFC7-B9695AE9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49123-C50F-4AC7-97AD-97944EDD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C55C8-202A-427F-B774-BB696A25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41742-C762-40EA-9880-578F7392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4CF73-C61A-49A7-8070-B192EC15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A6266-AE14-4EE9-BFF0-428BA2B4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18EA5-25FA-49F9-AF53-DC81D6A9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4EB92-7FE4-47ED-AAEE-62405E26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B8341-CAF5-4086-B5BB-4089443A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2E2CA-BF31-42DC-86E1-420FCD04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A3932-8F9F-4DA3-9FBA-C11DADE5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8EBA3-4099-4B2B-B408-0E845975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4DD66-E7FA-453E-B522-2701C4E3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71F16-8F3B-4475-94C5-0CF98932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97C57-424F-4227-8B92-F0DAEAED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7260F5-7FB5-4140-8524-94664A11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12008E-8110-431D-A0E4-E7CD7205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F442C9-E0D2-40E6-82BE-8E58F631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B31B48-241D-4132-80E7-2661F84C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1FB2B7-01FA-4CAB-BA0A-B816420C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30C5B-3DC1-4418-B355-607FA073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BA283D-0A44-4C97-9D43-09F52737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F1528C-7BF7-45FD-89CA-55F59F9C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284391-5837-4D60-A030-22A4BD2F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C20E28-AC74-4F85-A860-CAED8F25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1F737E-9466-4E75-857C-6863B341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1F4F7D-622A-4B5E-B06C-0E2F6E2D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414F4A-7454-4336-BEA9-F8230E2A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A31EB-9F5A-4AC0-985E-9C4BF7B7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3CFD2-E73E-4877-9029-F7E7BE06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02D8C-2FE5-4A5B-B645-DAD99894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2EE3B-C642-4989-8F91-1A509117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2D75C-CC51-49BE-85F7-09C0E3EC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48C8E-DA3E-44EA-9E78-758F64DD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24244-3714-4859-9B46-B875C891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AA8D4-4E3D-4F36-B45A-CDC72E52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6917B-897D-4B0E-AD80-FC014F49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D8347-4E18-43E2-B8BA-CD88E859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044C1-BB46-4ECE-A182-DBD2C0BE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1C439-62D1-4EED-A1F9-135C1597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C34AD-3711-4783-8970-23214AB4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6E883-C43C-4B20-96AA-F657CABA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E598-857C-4155-829A-7833EF04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1D7AE-2B39-480D-BFA2-128EE922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A47D6-5D44-412A-800C-54AF6C11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27FD7-3AD5-4CFE-A24D-7036E014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9334F-849B-4733-B12C-1D91E06E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2EE13-40C4-4AA8-A0AB-3A9BB819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9CBB8-5DEF-4E4A-8677-334D044B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11A32-F8D7-4E63-B760-5FB0332E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1EF56-4C48-42A2-9A3E-811DFAD5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D05F2-2885-4C02-B123-6827A982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92ECD-786F-46FF-9ACA-DBC722AE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39B50-7A90-42B1-B5A7-AEAD2A4F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17D77-BBE1-4085-9A9F-0AF56D39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F1A43-5CFB-4466-A796-75FE31E9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47E49-E424-491F-B3EE-0A513638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8E786-DFE5-4999-A05A-3D9623DE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CB9CC-0684-4B14-AB33-FF445DAF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F1630-2865-4CBE-B09E-D962E7AB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8A24B-C0FF-4E27-AB99-7C12FF05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223A8-9752-4947-96D4-218E7C5A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2DEB5-2B1D-405C-BE08-712F9480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A9D0A-346A-45AE-AEE9-ECA6B46D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7442-3EBE-4739-8D56-09366524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D6D1B-B770-45BA-9520-C27E6F93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BC656-C1C6-4192-A260-1C197C1F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B87EF-84FF-4F4B-849F-AC7C3BAC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A14D5-C15B-420B-A74C-A683EDA5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A61C9-7F80-4B4E-9ECB-771A7B1E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A83E-2F92-46B6-96ED-7FFDCBE5B4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29CF-C15A-4EF2-8ED1-7E0F85FE76EC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03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1F78-9A3A-4DE4-9CE6-18521FF28FF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6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BD67-267A-4210-8EFB-5F85DE8E02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4651-0E9F-4631-8014-8C1C4F513C6E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470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18"/>
            <p:cNvSpPr/>
            <p:nvPr/>
          </p:nvSpPr>
          <p:spPr>
            <a:xfrm flipH="1" flipV="1" rot="18391200">
              <a:off x="85388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B5DD-213C-45C9-9559-1A43149999CA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590560" y="2209320"/>
            <a:ext cx="74674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Основные понятия алгебры логики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1" name=""/>
          <p:cNvGraphicFramePr/>
          <p:nvPr/>
        </p:nvGraphicFramePr>
        <p:xfrm>
          <a:off x="685800" y="1828800"/>
          <a:ext cx="3200400" cy="2819520"/>
        </p:xfrm>
        <a:graphic>
          <a:graphicData uri="http://schemas.openxmlformats.org/drawingml/2006/table">
            <a:tbl>
              <a:tblPr/>
              <a:tblGrid>
                <a:gridCol w="1066680"/>
                <a:gridCol w="873360"/>
                <a:gridCol w="1260360"/>
              </a:tblGrid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762" name="Picture 205" descr="http://www.ioso.ru/distant/do/curse/logic/image012.gif"/>
          <p:cNvPicPr/>
          <p:nvPr/>
        </p:nvPicPr>
        <p:blipFill>
          <a:blip r:embed="rId1"/>
          <a:stretch/>
        </p:blipFill>
        <p:spPr>
          <a:xfrm>
            <a:off x="5105520" y="1981080"/>
            <a:ext cx="3047760" cy="243072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3429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Таблица истинност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208"/>
          <p:cNvSpPr/>
          <p:nvPr/>
        </p:nvSpPr>
        <p:spPr>
          <a:xfrm>
            <a:off x="4726080" y="760680"/>
            <a:ext cx="380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есечение множеств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209"/>
          <p:cNvSpPr/>
          <p:nvPr/>
        </p:nvSpPr>
        <p:spPr>
          <a:xfrm>
            <a:off x="4495680" y="609480"/>
            <a:ext cx="0" cy="563904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ОГИЧЕСКОЕ СЛОЖЕНИЕ (ДИЗЪЮНК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зъюнкци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огическим слож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двух высказывани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новое высказы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истинно, если истинно хотя бы одно из двух высказыва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=A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этом говоря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 ИЛИ 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удент едет в электричке или читает кни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означае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А или 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А OR 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А | 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А V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Oval 2"/>
          <p:cNvSpPr/>
          <p:nvPr/>
        </p:nvSpPr>
        <p:spPr>
          <a:xfrm>
            <a:off x="5003640" y="1916280"/>
            <a:ext cx="648000" cy="433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3"/>
          <p:cNvSpPr/>
          <p:nvPr/>
        </p:nvSpPr>
        <p:spPr>
          <a:xfrm>
            <a:off x="3635280" y="1916280"/>
            <a:ext cx="57636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91520" cy="2611440"/>
          </a:xfrm>
          <a:prstGeom prst="rect">
            <a:avLst/>
          </a:prstGeom>
          <a:noFill/>
          <a:ln w="38160">
            <a:solidFill>
              <a:srgbClr val="00007d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ДИЗЪЮНКЦИЯ</a:t>
            </a:r>
            <a:br>
              <a:rPr sz="4400"/>
            </a:b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логическое сложение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)</a:t>
            </a:r>
            <a:br>
              <a:rPr sz="4400"/>
            </a:b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х  </a:t>
            </a:r>
            <a:r>
              <a:rPr b="0" lang="ru-RU" sz="3200" spc="-1" strike="noStrike">
                <a:solidFill>
                  <a:srgbClr val="fa3685"/>
                </a:solidFill>
                <a:latin typeface="Arial"/>
              </a:rPr>
              <a:t>или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 у</a:t>
            </a:r>
            <a:br>
              <a:rPr sz="3200"/>
            </a:b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(x,y)= x</a:t>
            </a:r>
            <a:r>
              <a:rPr b="0" lang="en-US" sz="2800" spc="-1" strike="noStrike">
                <a:solidFill>
                  <a:srgbClr val="00007d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33">
            <a:hlinkClick r:id="" action="ppaction://hlinkshowjump?jump=previousslide"/>
          </p:cNvPr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10800"/>
                </a:moveTo>
                <a:lnTo>
                  <a:pt x="24482" y="3794"/>
                </a:lnTo>
                <a:lnTo>
                  <a:pt x="24482" y="17806"/>
                </a:lnTo>
                <a:close/>
              </a:path>
            </a:pathLst>
          </a:custGeom>
          <a:solidFill>
            <a:srgbClr val="b7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37"/>
          <p:cNvGrpSpPr/>
          <p:nvPr/>
        </p:nvGrpSpPr>
        <p:grpSpPr>
          <a:xfrm>
            <a:off x="2666880" y="3276720"/>
            <a:ext cx="4114440" cy="2895120"/>
            <a:chOff x="2666880" y="3276720"/>
            <a:chExt cx="4114440" cy="2895120"/>
          </a:xfrm>
        </p:grpSpPr>
        <p:sp>
          <p:nvSpPr>
            <p:cNvPr id="773" name="Rectangle 35"/>
            <p:cNvSpPr/>
            <p:nvPr/>
          </p:nvSpPr>
          <p:spPr>
            <a:xfrm>
              <a:off x="2666880" y="3276720"/>
              <a:ext cx="4114440" cy="2895120"/>
            </a:xfrm>
            <a:prstGeom prst="rect">
              <a:avLst/>
            </a:prstGeom>
            <a:solidFill>
              <a:srgbClr val="b7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4" name="Picture 36" descr="0007"/>
            <p:cNvPicPr/>
            <p:nvPr/>
          </p:nvPicPr>
          <p:blipFill>
            <a:blip r:embed="rId1"/>
            <a:stretch/>
          </p:blipFill>
          <p:spPr>
            <a:xfrm>
              <a:off x="3736800" y="3905280"/>
              <a:ext cx="2074320" cy="1234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3581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Таблица истинност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0"/>
          <p:cNvSpPr/>
          <p:nvPr/>
        </p:nvSpPr>
        <p:spPr>
          <a:xfrm>
            <a:off x="4667760" y="760680"/>
            <a:ext cx="39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бъединение множеств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31"/>
          <p:cNvSpPr/>
          <p:nvPr/>
        </p:nvSpPr>
        <p:spPr>
          <a:xfrm>
            <a:off x="4495680" y="609480"/>
            <a:ext cx="0" cy="563904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8" name=""/>
          <p:cNvGraphicFramePr/>
          <p:nvPr/>
        </p:nvGraphicFramePr>
        <p:xfrm>
          <a:off x="762120" y="1981080"/>
          <a:ext cx="3352680" cy="2971800"/>
        </p:xfrm>
        <a:graphic>
          <a:graphicData uri="http://schemas.openxmlformats.org/drawingml/2006/table">
            <a:tbl>
              <a:tblPr/>
              <a:tblGrid>
                <a:gridCol w="1117440"/>
                <a:gridCol w="916200"/>
                <a:gridCol w="131904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V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9" name="Picture 129" descr="http://www.ioso.ru/distant/do/curse/logic/image014.gif"/>
          <p:cNvPicPr/>
          <p:nvPr/>
        </p:nvPicPr>
        <p:blipFill>
          <a:blip r:embed="rId1"/>
          <a:stretch/>
        </p:blipFill>
        <p:spPr>
          <a:xfrm>
            <a:off x="5029200" y="1981080"/>
            <a:ext cx="327672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ОГИЧЕСКОЕ СЛЕДОВАНИЕ (ИМПЛИК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пликацие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х операндо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зы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сылк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зы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лючени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называется логическое выраж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ое ложно только тогда, когда посылка истина, а заключение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C=A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и этом говорят, из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мплицируе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число делится на 9, то оно делится на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сто операци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плик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но использовать следующее тождественное выражение: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A → B = ¬A V 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2" name=""/>
          <p:cNvGraphicFramePr/>
          <p:nvPr/>
        </p:nvGraphicFramePr>
        <p:xfrm>
          <a:off x="2895480" y="1752480"/>
          <a:ext cx="3078360" cy="2955960"/>
        </p:xfrm>
        <a:graphic>
          <a:graphicData uri="http://schemas.openxmlformats.org/drawingml/2006/table">
            <a:tbl>
              <a:tblPr/>
              <a:tblGrid>
                <a:gridCol w="765360"/>
                <a:gridCol w="798480"/>
                <a:gridCol w="15145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A →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3" name="Прямоугольник 2"/>
          <p:cNvSpPr/>
          <p:nvPr/>
        </p:nvSpPr>
        <p:spPr>
          <a:xfrm>
            <a:off x="2819520" y="7207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Таблица истинност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ОГИЧЕСКОЕ РАВЕНСТВО</a:t>
            </a: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 (ЭКВИВАЛЕНЦИЯ, ЭКВИВАЛЕНТ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квиваленцие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х высказыван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тс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е выраж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ое истинно только тогда, когда оба высказывания имеют одинаковые значения истинности, записывается </a:t>
            </a:r>
            <a:r>
              <a:rPr b="1" lang="ru-RU" sz="2800" spc="-1" strike="noStrike">
                <a:solidFill>
                  <a:srgbClr val="00005e"/>
                </a:solidFill>
                <a:latin typeface="Arial"/>
              </a:rPr>
              <a:t>C=A</a:t>
            </a:r>
            <a:r>
              <a:rPr b="1" lang="ru-RU" sz="2800" spc="-1" strike="noStrike">
                <a:solidFill>
                  <a:srgbClr val="00005e"/>
                </a:solidFill>
                <a:latin typeface="Symbol"/>
                <a:ea typeface="Symbol"/>
              </a:rPr>
              <a:t></a:t>
            </a:r>
            <a:r>
              <a:rPr b="1" lang="ru-RU" sz="2800" spc="-1" strike="noStrike">
                <a:solidFill>
                  <a:srgbClr val="00005e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А ~ В; А &lt;=&gt;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уется соединением двух высказываний в одно при помощи оборота речи "... ТОГДА И ТОЛЬКО ТОГДА, КОГДА ...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е прямые параллельны тогда и только тогда, когда они не пересекаются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6" name=""/>
          <p:cNvGraphicFramePr/>
          <p:nvPr/>
        </p:nvGraphicFramePr>
        <p:xfrm>
          <a:off x="3429000" y="533520"/>
          <a:ext cx="2743200" cy="3047760"/>
        </p:xfrm>
        <a:graphic>
          <a:graphicData uri="http://schemas.openxmlformats.org/drawingml/2006/table">
            <a:tbl>
              <a:tblPr/>
              <a:tblGrid>
                <a:gridCol w="792000"/>
                <a:gridCol w="762120"/>
                <a:gridCol w="1189080"/>
              </a:tblGrid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A ↔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87" name="Text Box 101"/>
          <p:cNvSpPr/>
          <p:nvPr/>
        </p:nvSpPr>
        <p:spPr>
          <a:xfrm>
            <a:off x="636480" y="3733920"/>
            <a:ext cx="8001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e"/>
                </a:solidFill>
                <a:latin typeface="Arial"/>
              </a:rPr>
              <a:t>таблица исти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A &lt;=&gt; B = (A </a:t>
            </a:r>
            <a:r>
              <a:rPr b="1" lang="ru-RU" sz="2800" spc="-1" strike="noStrike">
                <a:solidFill>
                  <a:srgbClr val="00007d"/>
                </a:solidFill>
                <a:latin typeface="Symbol"/>
                <a:ea typeface="Symbol"/>
              </a:rPr>
              <a:t>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B) V (¬A </a:t>
            </a:r>
            <a:r>
              <a:rPr b="1" lang="ru-RU" sz="2800" spc="-1" strike="noStrike">
                <a:solidFill>
                  <a:srgbClr val="00007d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¬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A &lt;=&gt; B = (A V ¬B) </a:t>
            </a:r>
            <a:r>
              <a:rPr b="1" lang="ru-RU" sz="2800" spc="-1" strike="noStrike">
                <a:solidFill>
                  <a:srgbClr val="00007d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(¬A V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48CE-9E16-496C-A786-37B29107635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Равносильные формулы алгебры логик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якое сложное высказывание, которое может быть получено из элементарных высказываний путем применения логических операций, назы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ормулой алгебры лог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ают высказы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«Я учусь в ДГТУ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люблю информати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йте следующее сложное высказыв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формулы алгебры логик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вноси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они принимаю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динаковые логические знач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любом наборе значений входящих в них высказывани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2" descr=""/>
          <p:cNvPicPr/>
          <p:nvPr/>
        </p:nvPicPr>
        <p:blipFill>
          <a:blip r:embed="rId1"/>
          <a:stretch/>
        </p:blipFill>
        <p:spPr>
          <a:xfrm>
            <a:off x="7620120" y="4495680"/>
            <a:ext cx="9903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14280" y="631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выражения             построить таблицу исти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1066680" y="3124080"/>
          <a:ext cx="5261040" cy="2286000"/>
        </p:xfrm>
        <a:graphic>
          <a:graphicData uri="http://schemas.openxmlformats.org/drawingml/2006/table">
            <a:tbl>
              <a:tblPr/>
              <a:tblGrid>
                <a:gridCol w="590760"/>
                <a:gridCol w="485640"/>
                <a:gridCol w="1325520"/>
                <a:gridCol w="608040"/>
                <a:gridCol w="2251080"/>
              </a:tblGrid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)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4" name="Rectangle 5"/>
          <p:cNvSpPr/>
          <p:nvPr/>
        </p:nvSpPr>
        <p:spPr>
          <a:xfrm>
            <a:off x="-190440" y="17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Объект 22"/>
              <p:cNvSpPr txBox="1"/>
              <p:nvPr/>
            </p:nvSpPr>
            <p:spPr>
              <a:xfrm>
                <a:off x="5638680" y="3336840"/>
                <a:ext cx="184320" cy="1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Объект 23"/>
              <p:cNvSpPr txBox="1"/>
              <p:nvPr/>
            </p:nvSpPr>
            <p:spPr>
              <a:xfrm>
                <a:off x="3697200" y="3300480"/>
                <a:ext cx="2001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797" name="Рисунок 24" descr=""/>
          <p:cNvPicPr/>
          <p:nvPr/>
        </p:nvPicPr>
        <p:blipFill>
          <a:blip r:embed="rId1"/>
          <a:stretch/>
        </p:blipFill>
        <p:spPr>
          <a:xfrm>
            <a:off x="3124080" y="973080"/>
            <a:ext cx="6842160" cy="37008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24"/>
          <p:cNvSpPr/>
          <p:nvPr/>
        </p:nvSpPr>
        <p:spPr>
          <a:xfrm>
            <a:off x="4098240" y="-15336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 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Объект 26"/>
              <p:cNvSpPr txBox="1"/>
              <p:nvPr/>
            </p:nvSpPr>
            <p:spPr>
              <a:xfrm>
                <a:off x="0" y="0"/>
                <a:ext cx="20016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00" name="Rectangle 25"/>
          <p:cNvSpPr/>
          <p:nvPr/>
        </p:nvSpPr>
        <p:spPr>
          <a:xfrm>
            <a:off x="4470840" y="7884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огика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наука о правильном мышл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 из главных задач логики – определить, как прийти к выводу из предпосыл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Булева алгеб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алгебра логики, алгебра суждений) – раздел математики, в котором изучаются логические операции над высказыва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ое понятие булевой алгебры – </a:t>
            </a: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выказы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од простым высказыванием понимается предложение, о котором можно сказать, </a:t>
            </a:r>
            <a:r>
              <a:rPr b="0" i="1" lang="ru-RU" sz="2800" spc="-1" strike="noStrike">
                <a:solidFill>
                  <a:srgbClr val="cc0099"/>
                </a:solidFill>
                <a:latin typeface="Arial"/>
              </a:rPr>
              <a:t>истин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но или </a:t>
            </a:r>
            <a:r>
              <a:rPr b="0" i="1" lang="ru-RU" sz="2800" spc="-1" strike="noStrike">
                <a:solidFill>
                  <a:srgbClr val="cc0099"/>
                </a:solidFill>
                <a:latin typeface="Arial"/>
              </a:rPr>
              <a:t>лож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7053-34E7-4E65-9E16-10FBAAFD4F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Равносильные формулы алгебры логик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ейшие равносильности можно разбить на три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равноси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10" descr=""/>
          <p:cNvPicPr/>
          <p:nvPr/>
        </p:nvPicPr>
        <p:blipFill>
          <a:blip r:embed="rId1"/>
          <a:stretch/>
        </p:blipFill>
        <p:spPr>
          <a:xfrm>
            <a:off x="0" y="2514600"/>
            <a:ext cx="8839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1561-5DBD-40F9-9FDA-BA339AF36A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Равносильные формулы алгебры логик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2" descr=""/>
          <p:cNvPicPr/>
          <p:nvPr/>
        </p:nvPicPr>
        <p:blipFill>
          <a:blip r:embed="rId1"/>
          <a:stretch/>
        </p:blipFill>
        <p:spPr>
          <a:xfrm>
            <a:off x="380880" y="2212920"/>
            <a:ext cx="541044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F733-21FD-4165-A731-52FCCCC9A5C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Равносильные формулы алгебры логик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I. Равносильности, выражающие одни логические операции через друг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8915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7B7A-22EA-45AF-9933-3C9DF1418D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Равносильные формулы алгебры логик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сновные законы алгебры лог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3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Использование булевых функ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ществует несколько стандартных форм, к которым приводятся логические выражения с помощью эквивалентных преобразований (формулы 1-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ая из них –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дизъюнктивная нормальная форма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ДНФ), имеет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1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2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где каждое из составляющи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ть конъюнкция простых высказываний или их отрицаний, напри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=(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)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торая –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конъюнктивная нормальная форма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КНФ), имеет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1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2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где каждое из составляющих есть дизъюнкция  простых высказываний или их отриц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Использование булевых функ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и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=(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1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2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3)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4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5)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чное и алгебраическое задание булевских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ть булевскую функцию мож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помощью таблицы истинности, определяя ее значения для всех наборов значений аргументов. Каждый аргумент может иметь два значения 0 и 1, следовательно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ргументов могут принимать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различных набо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, например булевская функция имеет три аргумен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Общее число наборов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8, зададим таблицу истинности функции, указав для каждого набора значени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мбинациях, где функция принимает значение 1, единицу заменим конъюнкцией аргумен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их отрицаний т.е. значени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=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поставим в соответствие выражение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ующем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=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поставим в соответствие выражение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элементы соединим знаками дизъюн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ассматриваемого примера, получи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(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=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аждую группу дизъюнкций  входя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аргумен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и. Такая ДНФ называется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совершен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именуется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СДН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4724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kom"/>
          <p:cNvPicPr/>
          <p:nvPr/>
        </p:nvPicPr>
        <p:blipFill>
          <a:blip r:embed="rId1"/>
          <a:stretch/>
        </p:blipFill>
        <p:spPr>
          <a:xfrm>
            <a:off x="2195640" y="1341360"/>
            <a:ext cx="5172120" cy="3371760"/>
          </a:xfrm>
          <a:prstGeom prst="rect">
            <a:avLst/>
          </a:prstGeom>
          <a:ln w="0">
            <a:noFill/>
          </a:ln>
        </p:spPr>
      </p:pic>
      <p:sp>
        <p:nvSpPr>
          <p:cNvPr id="824" name="WordArt 3"/>
          <p:cNvSpPr txBox="1"/>
          <p:nvPr/>
        </p:nvSpPr>
        <p:spPr>
          <a:xfrm>
            <a:off x="2033640" y="476280"/>
            <a:ext cx="50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ccccff"/>
                </a:solidFill>
                <a:latin typeface="Arial"/>
              </a:rPr>
              <a:t>логические  элементы</a:t>
            </a:r>
            <a:endParaRPr b="0" lang="en-US" sz="2000" spc="1" strike="noStrike">
              <a:ln w="0">
                <a:noFill/>
              </a:ln>
              <a:solidFill>
                <a:srgbClr val="ccccff"/>
              </a:solidFill>
              <a:latin typeface="Arial"/>
              <a:ea typeface="Arial"/>
            </a:endParaRPr>
          </a:p>
        </p:txBody>
      </p:sp>
      <p:sp>
        <p:nvSpPr>
          <p:cNvPr id="825" name="WordArt 4"/>
          <p:cNvSpPr txBox="1"/>
          <p:nvPr/>
        </p:nvSpPr>
        <p:spPr>
          <a:xfrm>
            <a:off x="1584360" y="4653000"/>
            <a:ext cx="5975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ccccff"/>
                </a:solidFill>
                <a:latin typeface="Arial"/>
              </a:rPr>
              <a:t>персонального  компьютера</a:t>
            </a:r>
            <a:endParaRPr b="0" lang="en-US" sz="2000" spc="1" strike="noStrike">
              <a:ln w="0">
                <a:noFill/>
              </a:ln>
              <a:solidFill>
                <a:srgbClr val="ccccff"/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такое лог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мент компьюте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Логический элемент компьютер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часть электронной логической схемы, которая реализует элементарную логическую функц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7" name="Picture 3" descr="j0289138"/>
          <p:cNvPicPr/>
          <p:nvPr/>
        </p:nvPicPr>
        <p:blipFill>
          <a:blip r:embed="rId1"/>
          <a:stretch/>
        </p:blipFill>
        <p:spPr>
          <a:xfrm>
            <a:off x="1332000" y="333360"/>
            <a:ext cx="1857240" cy="27939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j0289834"/>
          <p:cNvPicPr/>
          <p:nvPr/>
        </p:nvPicPr>
        <p:blipFill>
          <a:blip r:embed="rId1"/>
          <a:stretch/>
        </p:blipFill>
        <p:spPr>
          <a:xfrm>
            <a:off x="1908000" y="333360"/>
            <a:ext cx="2232360" cy="1487520"/>
          </a:xfrm>
          <a:prstGeom prst="rect">
            <a:avLst/>
          </a:prstGeom>
          <a:ln w="9360">
            <a:solidFill>
              <a:srgbClr val="990099"/>
            </a:solidFill>
            <a:miter/>
          </a:ln>
        </p:spPr>
      </p:pic>
      <p:pic>
        <p:nvPicPr>
          <p:cNvPr id="829" name="Picture 3" descr="j0289053"/>
          <p:cNvPicPr/>
          <p:nvPr/>
        </p:nvPicPr>
        <p:blipFill>
          <a:blip r:embed="rId2"/>
          <a:stretch/>
        </p:blipFill>
        <p:spPr>
          <a:xfrm>
            <a:off x="3851280" y="836640"/>
            <a:ext cx="2054160" cy="1347840"/>
          </a:xfrm>
          <a:prstGeom prst="rect">
            <a:avLst/>
          </a:prstGeom>
          <a:ln w="9360">
            <a:solidFill>
              <a:srgbClr val="6666ff"/>
            </a:solidFill>
            <a:miter/>
          </a:ln>
        </p:spPr>
      </p:pic>
      <p:pic>
        <p:nvPicPr>
          <p:cNvPr id="830" name="Picture 4" descr="j0289141"/>
          <p:cNvPicPr/>
          <p:nvPr/>
        </p:nvPicPr>
        <p:blipFill>
          <a:blip r:embed="rId3"/>
          <a:stretch/>
        </p:blipFill>
        <p:spPr>
          <a:xfrm>
            <a:off x="5364000" y="1268280"/>
            <a:ext cx="2089440" cy="1392480"/>
          </a:xfrm>
          <a:prstGeom prst="rect">
            <a:avLst/>
          </a:prstGeom>
          <a:ln w="9360">
            <a:solidFill>
              <a:srgbClr val="990099"/>
            </a:solidFill>
            <a:miter/>
          </a:ln>
        </p:spPr>
      </p:pic>
      <p:sp>
        <p:nvSpPr>
          <p:cNvPr id="831" name="AutoShape 5"/>
          <p:cNvSpPr/>
          <p:nvPr/>
        </p:nvSpPr>
        <p:spPr>
          <a:xfrm>
            <a:off x="2916360" y="3068640"/>
            <a:ext cx="3600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  <a:ea typeface="Arial"/>
              </a:rPr>
              <a:t>Логически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  <a:ea typeface="Arial"/>
              </a:rPr>
              <a:t>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6"/>
          <p:cNvSpPr/>
          <p:nvPr/>
        </p:nvSpPr>
        <p:spPr>
          <a:xfrm>
            <a:off x="250920" y="4653000"/>
            <a:ext cx="2303280" cy="647640"/>
          </a:xfrm>
          <a:prstGeom prst="flowChartTerminator">
            <a:avLst/>
          </a:pr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  <a:ea typeface="Arial"/>
              </a:rPr>
              <a:t>Схем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7"/>
          <p:cNvSpPr/>
          <p:nvPr/>
        </p:nvSpPr>
        <p:spPr>
          <a:xfrm>
            <a:off x="3635280" y="5229360"/>
            <a:ext cx="2303640" cy="647640"/>
          </a:xfrm>
          <a:prstGeom prst="flowChartTerminator">
            <a:avLst/>
          </a:pr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  <a:ea typeface="Arial"/>
              </a:rPr>
              <a:t>Схема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8"/>
          <p:cNvSpPr/>
          <p:nvPr/>
        </p:nvSpPr>
        <p:spPr>
          <a:xfrm>
            <a:off x="6840360" y="4653000"/>
            <a:ext cx="2303640" cy="647640"/>
          </a:xfrm>
          <a:prstGeom prst="flowChartTerminator">
            <a:avLst/>
          </a:prstGeom>
          <a:gradFill rotWithShape="0">
            <a:gsLst>
              <a:gs pos="0">
                <a:srgbClr val="6666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  <a:ea typeface="Arial"/>
              </a:rPr>
              <a:t>Схеме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9"/>
          <p:cNvSpPr/>
          <p:nvPr/>
        </p:nvSpPr>
        <p:spPr>
          <a:xfrm flipH="1">
            <a:off x="1258560" y="3500280"/>
            <a:ext cx="158436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0"/>
          <p:cNvSpPr/>
          <p:nvPr/>
        </p:nvSpPr>
        <p:spPr>
          <a:xfrm>
            <a:off x="6516720" y="3357720"/>
            <a:ext cx="151128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11"/>
          <p:cNvSpPr/>
          <p:nvPr/>
        </p:nvSpPr>
        <p:spPr>
          <a:xfrm>
            <a:off x="4788000" y="407664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ывания обозначаются латинскими буквами и могут принимать одно из двух значений: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ЛОЖ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означи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 или 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ИСТ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означи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одно высказывание не может быть одновременно истинным и лож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Примеры высказыв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Москва – столица Ро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Число 27 является прост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Волга впадает в Каспийское 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ие предложения 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высказываниями не являю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авай пойдем гуля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2*x&gt;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a*x2+b*x+c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Который ч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Свет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Руки ввер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435880" cy="54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представить два логических состояния — “1” и “0” в вентилях, соответствующие им входные и выходные сигналы имеют один из двух установленных уровней напря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+5 вольт и 0 воль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9" name="Picture 3" descr="signal"/>
          <p:cNvPicPr/>
          <p:nvPr/>
        </p:nvPicPr>
        <p:blipFill>
          <a:blip r:embed="rId1"/>
          <a:stretch/>
        </p:blipFill>
        <p:spPr>
          <a:xfrm>
            <a:off x="1332000" y="4417920"/>
            <a:ext cx="6769080" cy="1349640"/>
          </a:xfrm>
          <a:prstGeom prst="rect">
            <a:avLst/>
          </a:prstGeom>
          <a:ln w="9360">
            <a:solidFill>
              <a:srgbClr val="990099"/>
            </a:solidFill>
            <a:miter/>
          </a:ln>
        </p:spPr>
      </p:pic>
      <p:pic>
        <p:nvPicPr>
          <p:cNvPr id="840" name="Picture 4" descr="j0283706"/>
          <p:cNvPicPr/>
          <p:nvPr/>
        </p:nvPicPr>
        <p:blipFill>
          <a:blip r:embed="rId2"/>
          <a:stretch/>
        </p:blipFill>
        <p:spPr>
          <a:xfrm>
            <a:off x="6012000" y="2816280"/>
            <a:ext cx="1584360" cy="122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2" descr="j0289143"/>
          <p:cNvPicPr/>
          <p:nvPr/>
        </p:nvPicPr>
        <p:blipFill>
          <a:blip r:embed="rId1"/>
          <a:stretch/>
        </p:blipFill>
        <p:spPr>
          <a:xfrm>
            <a:off x="1042920" y="3068640"/>
            <a:ext cx="2649600" cy="1766880"/>
          </a:xfrm>
          <a:prstGeom prst="rect">
            <a:avLst/>
          </a:prstGeom>
          <a:ln w="9360">
            <a:solidFill>
              <a:srgbClr val="990099"/>
            </a:solidFill>
            <a:miter/>
          </a:ln>
        </p:spPr>
      </p:pic>
      <p:sp>
        <p:nvSpPr>
          <p:cNvPr id="842" name="PlaceHolder 1"/>
          <p:cNvSpPr>
            <a:spLocks noGrp="1"/>
          </p:cNvSpPr>
          <p:nvPr>
            <p:ph/>
          </p:nvPr>
        </p:nvSpPr>
        <p:spPr>
          <a:xfrm>
            <a:off x="3995640" y="1989000"/>
            <a:ext cx="48355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логический элемен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меет свое услов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значение, котор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ражает его логическу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нкцию, но не указывает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, какая именно электро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хема в нем реализова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Rectangle 4"/>
          <p:cNvSpPr/>
          <p:nvPr/>
        </p:nvSpPr>
        <p:spPr>
          <a:xfrm>
            <a:off x="466560" y="69228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сокий уровень обычно соответствует значению “истина” (“1”), а низкий — значению “ложь” (“0”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395280" y="5372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упрощает запись и понимание сложных логических схе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6" descr="j0289107"/>
          <p:cNvPicPr/>
          <p:nvPr/>
        </p:nvPicPr>
        <p:blipFill>
          <a:blip r:embed="rId2"/>
          <a:stretch/>
        </p:blipFill>
        <p:spPr>
          <a:xfrm>
            <a:off x="539640" y="2133720"/>
            <a:ext cx="2556000" cy="16905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Rockwell Extra Bold"/>
              </a:rPr>
              <a:t>        </a:t>
            </a:r>
            <a:r>
              <a:rPr b="1" lang="ru-RU" sz="4400" spc="-1" strike="noStrike">
                <a:solidFill>
                  <a:srgbClr val="990099"/>
                </a:solidFill>
                <a:latin typeface="Rockwell Extra Bold"/>
              </a:rPr>
              <a:t>Схема  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хема проводит ток, когда оба переключателя замкнуты, следовательно,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F(x) = x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3200"/>
            </a:b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7" name="Picture 3" descr="0078"/>
          <p:cNvPicPr/>
          <p:nvPr/>
        </p:nvPicPr>
        <p:blipFill>
          <a:blip r:embed="rId1"/>
          <a:stretch/>
        </p:blipFill>
        <p:spPr>
          <a:xfrm>
            <a:off x="2050920" y="4365720"/>
            <a:ext cx="5473800" cy="69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fdef6"/>
                </a:solidFill>
                <a:latin typeface="Rockwell Extra Bold"/>
              </a:rPr>
              <a:t>  </a:t>
            </a:r>
            <a:r>
              <a:rPr b="1" lang="ru-RU" sz="5400" spc="-1" strike="noStrike">
                <a:solidFill>
                  <a:srgbClr val="990099"/>
                </a:solidFill>
                <a:latin typeface="Rockwell Extra Bold"/>
              </a:rPr>
              <a:t>Схема  ИЛИ</a:t>
            </a:r>
            <a:br>
              <a:rPr sz="5400"/>
            </a:b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хема проводит ток, когда хотя бы один из переключателей замкнут, следовательно,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F(x)=x v y;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0" name="Picture 4" descr="0079"/>
          <p:cNvPicPr/>
          <p:nvPr/>
        </p:nvPicPr>
        <p:blipFill>
          <a:blip r:embed="rId1"/>
          <a:stretch/>
        </p:blipFill>
        <p:spPr>
          <a:xfrm>
            <a:off x="2825640" y="4437000"/>
            <a:ext cx="3492720" cy="1514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fdef6"/>
                </a:solidFill>
                <a:latin typeface="Rockwell Extra Bold"/>
              </a:rPr>
              <a:t>  </a:t>
            </a:r>
            <a:r>
              <a:rPr b="1" lang="ru-RU" sz="5400" spc="-1" strike="noStrike">
                <a:solidFill>
                  <a:srgbClr val="990099"/>
                </a:solidFill>
                <a:latin typeface="Rockwell Extra Bold"/>
              </a:rPr>
              <a:t>Схема  НЕ</a:t>
            </a:r>
            <a:br>
              <a:rPr sz="5400"/>
            </a:b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хема проводит ток, когда переключатель х разомкнут, и не проводит, когда х замкнут, следовательно,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F(x) = -Х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3" name="Picture 4" descr="0077"/>
          <p:cNvPicPr/>
          <p:nvPr/>
        </p:nvPicPr>
        <p:blipFill>
          <a:blip r:embed="rId1"/>
          <a:stretch/>
        </p:blipFill>
        <p:spPr>
          <a:xfrm>
            <a:off x="2843280" y="4941720"/>
            <a:ext cx="4013280" cy="73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Использование булевых функций в синтезе цифровых сх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ое устройство ЭВМ можно представить как функциональный преобразователь, выполняющее арифметические действия над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воичными числ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есть сигнал, нет сигнал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Цифровой сигна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игнал, который может принимать только два установленных значения. Физическая природа сигнала может быть самой различной, наприм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ление на выходе схемы напряжения или силы тока определенной велич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ение лампы или звон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атие кноп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батывание электромагнитного реле и другие изменения в электрической цеп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существенно, чтобы имелось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ва резко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отлич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ояния физических величин (обозначаемых 0,1), моделирующих истинность или ложность логических высказыв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Входными перемен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аргументами) такого преобразователя являются исходные двоичные числа, а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выходной функци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 них - новое двоичное число, которое образовалось в результате выполнения данной опер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как входные переменные, так и выходные функции могут принимать лишь одно из двух возможных значений - 0 (ложь - нет сигнала) и 1 (истина - есть сигнал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ку двоичной информации осуществляет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арифметико-логическое устрой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являющееся частью процесс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стройство состоит из логически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ретный преобразователь, который после обработки входных двоичных сигналов выдаёт на выходе сигнал, являющийся значением одной из логических операций, называется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логическим элемен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ОГИЧЕСКИЙ ЭЛЕМЕНТ "НЕ" (инвертор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ивает на выходе сигнал, противоположный сигналу на входе, т.е. на его выходе будет 1, если на вход поступает 0 и наоборо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хемах инверсия обозначается кружочком на вых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4" descr="pic14_3"/>
          <p:cNvPicPr/>
          <p:nvPr/>
        </p:nvPicPr>
        <p:blipFill>
          <a:blip r:embed="rId1"/>
          <a:stretch/>
        </p:blipFill>
        <p:spPr>
          <a:xfrm>
            <a:off x="3124080" y="4572000"/>
            <a:ext cx="25146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ОГИЧЕСКИЙ ЭЛЕМЕНТ "И" (конъюнктор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им элементом "И" называется такой элемент, который на выходе выдает значение логического произведения входных сигна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ыходе элемент "И" дает 1 тогда и только тогда, когда на все входы поданы 1. Условное обозначение логического элемента "И"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4" descr="pic14_1"/>
          <p:cNvPicPr/>
          <p:nvPr/>
        </p:nvPicPr>
        <p:blipFill>
          <a:blip r:embed="rId1"/>
          <a:stretch/>
        </p:blipFill>
        <p:spPr>
          <a:xfrm>
            <a:off x="3429000" y="4343400"/>
            <a:ext cx="259092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е высказывание 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огическое выраж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но построить с помощью </a:t>
            </a:r>
            <a:r>
              <a:rPr b="0" i="1" lang="ru-RU" sz="2800" spc="-1" strike="noStrike">
                <a:solidFill>
                  <a:srgbClr val="cc0099"/>
                </a:solidFill>
                <a:latin typeface="Arial"/>
              </a:rPr>
              <a:t>логических операций</a:t>
            </a:r>
            <a:r>
              <a:rPr b="0" i="1" lang="ru-RU" sz="2800" spc="-1" strike="noStrike">
                <a:solidFill>
                  <a:srgbClr val="cc0099"/>
                </a:solidFill>
                <a:latin typeface="Arial"/>
              </a:rPr>
              <a:t>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риц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ъюнкц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изъюнк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плик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вивале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ОГИЧЕСКИЙ ЭЛЕМЕНТ "ИЛИ" (дизъюнкт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0948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им элементом "ИЛИ" называется такой элемент, который на выходе выдает значение логической суммы входных сигна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ыходе дизъюнктор дает 1, если хотя бы на один из входов подана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вное обозначе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4" descr="pic14_2"/>
          <p:cNvPicPr/>
          <p:nvPr/>
        </p:nvPicPr>
        <p:blipFill>
          <a:blip r:embed="rId1"/>
          <a:stretch/>
        </p:blipFill>
        <p:spPr>
          <a:xfrm>
            <a:off x="3124080" y="4572000"/>
            <a:ext cx="28958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, выработанный одним логическим элементом можно подавать на вход другого логического элемента. Это дает возможность образовывать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цепоч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з отдельных логических элеме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4" descr="pic15_1"/>
          <p:cNvPicPr/>
          <p:nvPr/>
        </p:nvPicPr>
        <p:blipFill>
          <a:blip r:embed="rId1"/>
          <a:stretch/>
        </p:blipFill>
        <p:spPr>
          <a:xfrm>
            <a:off x="1143000" y="3505320"/>
            <a:ext cx="3429000" cy="126684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5" descr="pic15_2"/>
          <p:cNvPicPr/>
          <p:nvPr/>
        </p:nvPicPr>
        <p:blipFill>
          <a:blip r:embed="rId2"/>
          <a:stretch/>
        </p:blipFill>
        <p:spPr>
          <a:xfrm>
            <a:off x="4648320" y="4800600"/>
            <a:ext cx="350496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почку из логических элементов будем называть 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логическим устройств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Схемы, соответствующие таким устройствам, называют функциональ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 более сложной функциональной сх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Picture 4" descr="pic16"/>
          <p:cNvPicPr/>
          <p:nvPr/>
        </p:nvPicPr>
        <p:blipFill>
          <a:blip r:embed="rId1"/>
          <a:stretch/>
        </p:blipFill>
        <p:spPr>
          <a:xfrm>
            <a:off x="1981080" y="4267080"/>
            <a:ext cx="586764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риложение алгебры логики в технике (релейно-контактные схемы - РК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ройств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лейно-контактного действ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роко используются в электронно-вычислительной технике. Эти устройства содержат сотн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л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лупроводников и электромагнитных эле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ле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электрическое или электронное устройство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ю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предназначенное дл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мыкания или размыка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ой цепи при заданных изменениях электрических входных воздейств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риложение алгебры логики в технике (релейно-контактные схемы - РК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алгебры логики в конструировании РКС возможно в связи с тем, чт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ждой схем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поставить в соответствие некоторую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формулу алгебры лог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ам, включающим основные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логические операции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к же могут быть поставлены в соответств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К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7d"/>
                </a:solidFill>
                <a:uFillTx/>
                <a:latin typeface="Arial"/>
              </a:rPr>
              <a:t>Конъюнкция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ух высказываний будет представлена двухполюсной схемой с последовательным соединением двух переключателе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схема пропускает ток тогда и только тогда, если замкнуты (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истин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оба переключа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4"/>
          <p:cNvGrpSpPr/>
          <p:nvPr/>
        </p:nvGrpSpPr>
        <p:grpSpPr>
          <a:xfrm>
            <a:off x="3048120" y="4724280"/>
            <a:ext cx="2819160" cy="685440"/>
            <a:chOff x="3048120" y="4724280"/>
            <a:chExt cx="2819160" cy="685440"/>
          </a:xfrm>
        </p:grpSpPr>
        <p:sp>
          <p:nvSpPr>
            <p:cNvPr id="878" name="Line 5"/>
            <p:cNvSpPr/>
            <p:nvPr/>
          </p:nvSpPr>
          <p:spPr>
            <a:xfrm>
              <a:off x="3048120" y="5118840"/>
              <a:ext cx="281916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 Box 6"/>
            <p:cNvSpPr/>
            <p:nvPr/>
          </p:nvSpPr>
          <p:spPr>
            <a:xfrm>
              <a:off x="4866120" y="4739040"/>
              <a:ext cx="614880" cy="67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Text Box 7"/>
            <p:cNvSpPr/>
            <p:nvPr/>
          </p:nvSpPr>
          <p:spPr>
            <a:xfrm>
              <a:off x="3415680" y="4724280"/>
              <a:ext cx="614880" cy="67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7d"/>
                </a:solidFill>
                <a:uFillTx/>
                <a:latin typeface="Arial"/>
              </a:rPr>
              <a:t>Дизъюнкция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азитьс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ухполюсной схемой с параллельным соединением двух переключателе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Эта схема пропускает ток тогда и только тогда, если замкнут (истинен) один или замкнут (истинен) другой переключа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4"/>
          <p:cNvGrpSpPr/>
          <p:nvPr/>
        </p:nvGrpSpPr>
        <p:grpSpPr>
          <a:xfrm>
            <a:off x="3657600" y="4191120"/>
            <a:ext cx="2286000" cy="1752120"/>
            <a:chOff x="3657600" y="4191120"/>
            <a:chExt cx="2286000" cy="1752120"/>
          </a:xfrm>
        </p:grpSpPr>
        <p:sp>
          <p:nvSpPr>
            <p:cNvPr id="883" name="Line 5"/>
            <p:cNvSpPr/>
            <p:nvPr/>
          </p:nvSpPr>
          <p:spPr>
            <a:xfrm>
              <a:off x="4088520" y="4502520"/>
              <a:ext cx="1489680" cy="1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Text Box 6"/>
            <p:cNvSpPr/>
            <p:nvPr/>
          </p:nvSpPr>
          <p:spPr>
            <a:xfrm>
              <a:off x="4555800" y="4191120"/>
              <a:ext cx="459720" cy="605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7"/>
            <p:cNvSpPr/>
            <p:nvPr/>
          </p:nvSpPr>
          <p:spPr>
            <a:xfrm flipV="1">
              <a:off x="3657600" y="4915080"/>
              <a:ext cx="428040" cy="34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8"/>
            <p:cNvSpPr/>
            <p:nvPr/>
          </p:nvSpPr>
          <p:spPr>
            <a:xfrm>
              <a:off x="4085640" y="4490640"/>
              <a:ext cx="720" cy="113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9"/>
            <p:cNvSpPr/>
            <p:nvPr/>
          </p:nvSpPr>
          <p:spPr>
            <a:xfrm>
              <a:off x="5597280" y="4490640"/>
              <a:ext cx="720" cy="113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Line 10"/>
            <p:cNvSpPr/>
            <p:nvPr/>
          </p:nvSpPr>
          <p:spPr>
            <a:xfrm>
              <a:off x="4116600" y="5637600"/>
              <a:ext cx="1490040" cy="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11"/>
            <p:cNvSpPr/>
            <p:nvPr/>
          </p:nvSpPr>
          <p:spPr>
            <a:xfrm>
              <a:off x="4584240" y="5337720"/>
              <a:ext cx="459720" cy="605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Line 12"/>
            <p:cNvSpPr/>
            <p:nvPr/>
          </p:nvSpPr>
          <p:spPr>
            <a:xfrm>
              <a:off x="5590440" y="4929480"/>
              <a:ext cx="353160" cy="19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Написать формулу по заданной РК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7"/>
          <p:cNvSpPr/>
          <p:nvPr/>
        </p:nvSpPr>
        <p:spPr>
          <a:xfrm>
            <a:off x="2203560" y="990720"/>
            <a:ext cx="371520" cy="42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13"/>
          <p:cNvSpPr/>
          <p:nvPr/>
        </p:nvSpPr>
        <p:spPr>
          <a:xfrm>
            <a:off x="3040200" y="1509840"/>
            <a:ext cx="1120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Group 60"/>
          <p:cNvGrpSpPr/>
          <p:nvPr/>
        </p:nvGrpSpPr>
        <p:grpSpPr>
          <a:xfrm>
            <a:off x="533520" y="1201680"/>
            <a:ext cx="3247920" cy="2285640"/>
            <a:chOff x="533520" y="1201680"/>
            <a:chExt cx="3247920" cy="2285640"/>
          </a:xfrm>
        </p:grpSpPr>
        <p:sp>
          <p:nvSpPr>
            <p:cNvPr id="895" name="Line 5"/>
            <p:cNvSpPr/>
            <p:nvPr/>
          </p:nvSpPr>
          <p:spPr>
            <a:xfrm>
              <a:off x="641520" y="2900880"/>
              <a:ext cx="11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6"/>
            <p:cNvSpPr/>
            <p:nvPr/>
          </p:nvSpPr>
          <p:spPr>
            <a:xfrm>
              <a:off x="1825560" y="1209600"/>
              <a:ext cx="120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8"/>
            <p:cNvSpPr/>
            <p:nvPr/>
          </p:nvSpPr>
          <p:spPr>
            <a:xfrm>
              <a:off x="533520" y="1503000"/>
              <a:ext cx="12906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9"/>
            <p:cNvSpPr/>
            <p:nvPr/>
          </p:nvSpPr>
          <p:spPr>
            <a:xfrm>
              <a:off x="1824120" y="1201680"/>
              <a:ext cx="0" cy="81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0"/>
            <p:cNvSpPr/>
            <p:nvPr/>
          </p:nvSpPr>
          <p:spPr>
            <a:xfrm>
              <a:off x="3044880" y="1201680"/>
              <a:ext cx="1440" cy="81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11"/>
            <p:cNvSpPr/>
            <p:nvPr/>
          </p:nvSpPr>
          <p:spPr>
            <a:xfrm>
              <a:off x="1847880" y="2025000"/>
              <a:ext cx="12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12"/>
            <p:cNvSpPr/>
            <p:nvPr/>
          </p:nvSpPr>
          <p:spPr>
            <a:xfrm>
              <a:off x="2225520" y="1809720"/>
              <a:ext cx="37332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14"/>
            <p:cNvSpPr/>
            <p:nvPr/>
          </p:nvSpPr>
          <p:spPr>
            <a:xfrm>
              <a:off x="631800" y="1501560"/>
              <a:ext cx="1440" cy="140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15"/>
            <p:cNvSpPr/>
            <p:nvPr/>
          </p:nvSpPr>
          <p:spPr>
            <a:xfrm>
              <a:off x="1841400" y="2558520"/>
              <a:ext cx="12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6"/>
            <p:cNvSpPr/>
            <p:nvPr/>
          </p:nvSpPr>
          <p:spPr>
            <a:xfrm>
              <a:off x="3243240" y="1302120"/>
              <a:ext cx="41436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17"/>
            <p:cNvSpPr/>
            <p:nvPr/>
          </p:nvSpPr>
          <p:spPr>
            <a:xfrm>
              <a:off x="1839960" y="2548800"/>
              <a:ext cx="0" cy="81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18"/>
            <p:cNvSpPr/>
            <p:nvPr/>
          </p:nvSpPr>
          <p:spPr>
            <a:xfrm>
              <a:off x="3060720" y="2548800"/>
              <a:ext cx="1440" cy="81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19"/>
            <p:cNvSpPr/>
            <p:nvPr/>
          </p:nvSpPr>
          <p:spPr>
            <a:xfrm>
              <a:off x="1863720" y="3372480"/>
              <a:ext cx="120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20"/>
            <p:cNvSpPr/>
            <p:nvPr/>
          </p:nvSpPr>
          <p:spPr>
            <a:xfrm>
              <a:off x="2241720" y="3052800"/>
              <a:ext cx="35712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21"/>
            <p:cNvSpPr/>
            <p:nvPr/>
          </p:nvSpPr>
          <p:spPr>
            <a:xfrm>
              <a:off x="3054240" y="2865240"/>
              <a:ext cx="72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22"/>
            <p:cNvSpPr/>
            <p:nvPr/>
          </p:nvSpPr>
          <p:spPr>
            <a:xfrm>
              <a:off x="2211480" y="2404440"/>
              <a:ext cx="363600" cy="41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23"/>
            <p:cNvSpPr/>
            <p:nvPr/>
          </p:nvSpPr>
          <p:spPr>
            <a:xfrm>
              <a:off x="3765600" y="1491840"/>
              <a:ext cx="1440" cy="137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61"/>
          <p:cNvGrpSpPr/>
          <p:nvPr/>
        </p:nvGrpSpPr>
        <p:grpSpPr>
          <a:xfrm>
            <a:off x="304920" y="3962520"/>
            <a:ext cx="5105160" cy="1923840"/>
            <a:chOff x="304920" y="3962520"/>
            <a:chExt cx="5105160" cy="1923840"/>
          </a:xfrm>
        </p:grpSpPr>
        <p:sp>
          <p:nvSpPr>
            <p:cNvPr id="913" name="Line 25"/>
            <p:cNvSpPr/>
            <p:nvPr/>
          </p:nvSpPr>
          <p:spPr>
            <a:xfrm>
              <a:off x="304920" y="418608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Line 26"/>
            <p:cNvSpPr/>
            <p:nvPr/>
          </p:nvSpPr>
          <p:spPr>
            <a:xfrm>
              <a:off x="1593720" y="4195800"/>
              <a:ext cx="0" cy="10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27"/>
            <p:cNvSpPr/>
            <p:nvPr/>
          </p:nvSpPr>
          <p:spPr>
            <a:xfrm>
              <a:off x="1609560" y="5245200"/>
              <a:ext cx="84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28"/>
            <p:cNvSpPr/>
            <p:nvPr/>
          </p:nvSpPr>
          <p:spPr>
            <a:xfrm>
              <a:off x="2465280" y="4797360"/>
              <a:ext cx="0" cy="87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Line 29"/>
            <p:cNvSpPr/>
            <p:nvPr/>
          </p:nvSpPr>
          <p:spPr>
            <a:xfrm>
              <a:off x="2457360" y="4797360"/>
              <a:ext cx="17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30"/>
            <p:cNvSpPr/>
            <p:nvPr/>
          </p:nvSpPr>
          <p:spPr>
            <a:xfrm>
              <a:off x="2449440" y="5681520"/>
              <a:ext cx="17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31"/>
            <p:cNvSpPr/>
            <p:nvPr/>
          </p:nvSpPr>
          <p:spPr>
            <a:xfrm>
              <a:off x="4178160" y="4186080"/>
              <a:ext cx="0" cy="150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32"/>
            <p:cNvSpPr/>
            <p:nvPr/>
          </p:nvSpPr>
          <p:spPr>
            <a:xfrm>
              <a:off x="746280" y="3983040"/>
              <a:ext cx="39672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33"/>
            <p:cNvSpPr/>
            <p:nvPr/>
          </p:nvSpPr>
          <p:spPr>
            <a:xfrm>
              <a:off x="1825560" y="3971880"/>
              <a:ext cx="41616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34"/>
            <p:cNvSpPr/>
            <p:nvPr/>
          </p:nvSpPr>
          <p:spPr>
            <a:xfrm>
              <a:off x="3240000" y="3962520"/>
              <a:ext cx="493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35"/>
            <p:cNvSpPr/>
            <p:nvPr/>
          </p:nvSpPr>
          <p:spPr>
            <a:xfrm>
              <a:off x="2841480" y="4584600"/>
              <a:ext cx="41616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36"/>
            <p:cNvSpPr/>
            <p:nvPr/>
          </p:nvSpPr>
          <p:spPr>
            <a:xfrm>
              <a:off x="3537000" y="5419800"/>
              <a:ext cx="3967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37"/>
            <p:cNvSpPr/>
            <p:nvPr/>
          </p:nvSpPr>
          <p:spPr>
            <a:xfrm>
              <a:off x="2770200" y="5419800"/>
              <a:ext cx="41580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Group 62"/>
          <p:cNvGrpSpPr/>
          <p:nvPr/>
        </p:nvGrpSpPr>
        <p:grpSpPr>
          <a:xfrm>
            <a:off x="4267080" y="2057400"/>
            <a:ext cx="4648320" cy="1905120"/>
            <a:chOff x="4267080" y="2057400"/>
            <a:chExt cx="4648320" cy="1905120"/>
          </a:xfrm>
        </p:grpSpPr>
        <p:sp>
          <p:nvSpPr>
            <p:cNvPr id="927" name="Line 39"/>
            <p:cNvSpPr/>
            <p:nvPr/>
          </p:nvSpPr>
          <p:spPr>
            <a:xfrm>
              <a:off x="4557600" y="3514680"/>
              <a:ext cx="14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40"/>
            <p:cNvSpPr/>
            <p:nvPr/>
          </p:nvSpPr>
          <p:spPr>
            <a:xfrm>
              <a:off x="6022800" y="2224080"/>
              <a:ext cx="14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Line 41"/>
            <p:cNvSpPr/>
            <p:nvPr/>
          </p:nvSpPr>
          <p:spPr>
            <a:xfrm>
              <a:off x="4267080" y="2463840"/>
              <a:ext cx="76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42"/>
            <p:cNvSpPr/>
            <p:nvPr/>
          </p:nvSpPr>
          <p:spPr>
            <a:xfrm>
              <a:off x="5035680" y="2292480"/>
              <a:ext cx="460080" cy="32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43"/>
            <p:cNvSpPr/>
            <p:nvPr/>
          </p:nvSpPr>
          <p:spPr>
            <a:xfrm>
              <a:off x="6491160" y="2057400"/>
              <a:ext cx="44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Line 44"/>
            <p:cNvSpPr/>
            <p:nvPr/>
          </p:nvSpPr>
          <p:spPr>
            <a:xfrm>
              <a:off x="5495760" y="2471760"/>
              <a:ext cx="52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Line 45"/>
            <p:cNvSpPr/>
            <p:nvPr/>
          </p:nvSpPr>
          <p:spPr>
            <a:xfrm>
              <a:off x="6022800" y="2224080"/>
              <a:ext cx="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Line 46"/>
            <p:cNvSpPr/>
            <p:nvPr/>
          </p:nvSpPr>
          <p:spPr>
            <a:xfrm>
              <a:off x="7534440" y="2224080"/>
              <a:ext cx="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Line 47"/>
            <p:cNvSpPr/>
            <p:nvPr/>
          </p:nvSpPr>
          <p:spPr>
            <a:xfrm>
              <a:off x="6051600" y="2846520"/>
              <a:ext cx="149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48"/>
            <p:cNvSpPr/>
            <p:nvPr/>
          </p:nvSpPr>
          <p:spPr>
            <a:xfrm>
              <a:off x="6519960" y="2685960"/>
              <a:ext cx="461880" cy="32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49"/>
            <p:cNvSpPr/>
            <p:nvPr/>
          </p:nvSpPr>
          <p:spPr>
            <a:xfrm>
              <a:off x="7524720" y="2459160"/>
              <a:ext cx="13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50"/>
            <p:cNvSpPr/>
            <p:nvPr/>
          </p:nvSpPr>
          <p:spPr>
            <a:xfrm>
              <a:off x="4548240" y="2459160"/>
              <a:ext cx="0" cy="10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51"/>
            <p:cNvSpPr/>
            <p:nvPr/>
          </p:nvSpPr>
          <p:spPr>
            <a:xfrm>
              <a:off x="6041880" y="3252960"/>
              <a:ext cx="14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52"/>
            <p:cNvSpPr/>
            <p:nvPr/>
          </p:nvSpPr>
          <p:spPr>
            <a:xfrm>
              <a:off x="4933800" y="3373560"/>
              <a:ext cx="4762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53"/>
            <p:cNvSpPr/>
            <p:nvPr/>
          </p:nvSpPr>
          <p:spPr>
            <a:xfrm>
              <a:off x="6041880" y="3252960"/>
              <a:ext cx="0" cy="61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Line 54"/>
            <p:cNvSpPr/>
            <p:nvPr/>
          </p:nvSpPr>
          <p:spPr>
            <a:xfrm>
              <a:off x="7554960" y="3252960"/>
              <a:ext cx="0" cy="61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55"/>
            <p:cNvSpPr/>
            <p:nvPr/>
          </p:nvSpPr>
          <p:spPr>
            <a:xfrm>
              <a:off x="6070680" y="3875040"/>
              <a:ext cx="149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56"/>
            <p:cNvSpPr/>
            <p:nvPr/>
          </p:nvSpPr>
          <p:spPr>
            <a:xfrm>
              <a:off x="6539040" y="3635280"/>
              <a:ext cx="442800" cy="32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57"/>
            <p:cNvSpPr/>
            <p:nvPr/>
          </p:nvSpPr>
          <p:spPr>
            <a:xfrm>
              <a:off x="7545240" y="3487680"/>
              <a:ext cx="90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58"/>
            <p:cNvSpPr/>
            <p:nvPr/>
          </p:nvSpPr>
          <p:spPr>
            <a:xfrm>
              <a:off x="6502320" y="3139920"/>
              <a:ext cx="451080" cy="3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59"/>
            <p:cNvSpPr/>
            <p:nvPr/>
          </p:nvSpPr>
          <p:spPr>
            <a:xfrm>
              <a:off x="8426520" y="2451240"/>
              <a:ext cx="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Построить РКС для 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Picture 4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8534160" cy="3690720"/>
          </a:xfrm>
          <a:prstGeom prst="rect">
            <a:avLst/>
          </a:prstGeom>
          <a:ln w="0">
            <a:noFill/>
          </a:ln>
        </p:spPr>
      </p:pic>
      <p:sp>
        <p:nvSpPr>
          <p:cNvPr id="950" name="Rectangle 5"/>
          <p:cNvSpPr/>
          <p:nvPr/>
        </p:nvSpPr>
        <p:spPr>
          <a:xfrm>
            <a:off x="762120" y="1600200"/>
            <a:ext cx="8001000" cy="3276720"/>
          </a:xfrm>
          <a:prstGeom prst="rect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ы тес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Для какого имени истинно высказы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urier New"/>
                <a:ea typeface="Calibri"/>
              </a:rPr>
              <a:t>¬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ервая буква имени гласна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→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Четвертая буква имени согласн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75000"/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ЛЕНА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) ВАДИМ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) АНТОН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) ФЕД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какого имени истинно высказы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торая буква гласн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рвая букв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лас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следняя буква соглас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АЛИ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2) МАКСИМ    3) СТЕПАН     4) Е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ОГИЧЕСКОЕ ОТРИЦАНИЕ (ИНВЕРС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цией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рицания (инверсией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 называют высказыва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Ā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противоположное данному,  которое истинно, тогда когд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ожно и ложно, тогда когд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тинно (чит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версия обознача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Ā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;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¬А; not A; !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 истинности инверсии  определяется по специальной таблице истинности, которая выглядит так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6"/>
          <p:cNvSpPr/>
          <p:nvPr/>
        </p:nvSpPr>
        <p:spPr>
          <a:xfrm>
            <a:off x="2050920" y="2865600"/>
            <a:ext cx="4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4267080" y="4572000"/>
          <a:ext cx="1524240" cy="1709640"/>
        </p:xfrm>
        <a:graphic>
          <a:graphicData uri="http://schemas.openxmlformats.org/drawingml/2006/table">
            <a:tbl>
              <a:tblPr/>
              <a:tblGrid>
                <a:gridCol w="760680"/>
                <a:gridCol w="763560"/>
              </a:tblGrid>
              <a:tr h="672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¬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1" name="Picture 45" descr="http://www.ioso.ru/distant/do/curse/logic/image008.gif"/>
          <p:cNvPicPr/>
          <p:nvPr/>
        </p:nvPicPr>
        <p:blipFill>
          <a:blip r:embed="rId1"/>
          <a:stretch/>
        </p:blipFill>
        <p:spPr>
          <a:xfrm>
            <a:off x="0" y="0"/>
            <a:ext cx="22860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Oval 2"/>
          <p:cNvSpPr/>
          <p:nvPr/>
        </p:nvSpPr>
        <p:spPr>
          <a:xfrm>
            <a:off x="6372360" y="1844640"/>
            <a:ext cx="43308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3"/>
          <p:cNvSpPr/>
          <p:nvPr/>
        </p:nvSpPr>
        <p:spPr>
          <a:xfrm>
            <a:off x="3203640" y="1844640"/>
            <a:ext cx="431640" cy="36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684360" y="549360"/>
            <a:ext cx="7991280" cy="2303280"/>
          </a:xfrm>
          <a:prstGeom prst="rect">
            <a:avLst/>
          </a:pr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915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ИНВЕРСИЯ</a:t>
            </a:r>
            <a:br>
              <a:rPr sz="4000"/>
            </a:b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отрицание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)</a:t>
            </a:r>
            <a:br>
              <a:rPr sz="4000"/>
            </a:br>
            <a:r>
              <a:rPr b="0" lang="ru-RU" sz="2800" spc="-1" strike="noStrike">
                <a:solidFill>
                  <a:srgbClr val="fa3685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   х  ;  </a:t>
            </a:r>
            <a:r>
              <a:rPr b="0" lang="ru-RU" sz="2800" spc="-1" strike="noStrike">
                <a:solidFill>
                  <a:srgbClr val="fa3685"/>
                </a:solidFill>
                <a:latin typeface="Arial"/>
              </a:rPr>
              <a:t>не верно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что   х</a:t>
            </a:r>
            <a:br>
              <a:rPr sz="4000"/>
            </a:b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(x) = - x = </a:t>
            </a:r>
            <a:r>
              <a:rPr b="0" lang="en-US" sz="2800" spc="-1" strike="noStrike">
                <a:solidFill>
                  <a:srgbClr val="00007d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x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22">
            <a:hlinkClick r:id="" action="ppaction://hlinkshowjump?jump=previousslide"/>
          </p:cNvPr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10800"/>
                </a:moveTo>
                <a:lnTo>
                  <a:pt x="24482" y="3794"/>
                </a:lnTo>
                <a:lnTo>
                  <a:pt x="24482" y="17806"/>
                </a:lnTo>
                <a:close/>
              </a:path>
            </a:pathLst>
          </a:custGeom>
          <a:solidFill>
            <a:srgbClr val="b7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26"/>
          <p:cNvGrpSpPr/>
          <p:nvPr/>
        </p:nvGrpSpPr>
        <p:grpSpPr>
          <a:xfrm>
            <a:off x="2819520" y="3200400"/>
            <a:ext cx="3733200" cy="2819160"/>
            <a:chOff x="2819520" y="3200400"/>
            <a:chExt cx="3733200" cy="2819160"/>
          </a:xfrm>
        </p:grpSpPr>
        <p:sp>
          <p:nvSpPr>
            <p:cNvPr id="748" name="Rectangle 24"/>
            <p:cNvSpPr/>
            <p:nvPr/>
          </p:nvSpPr>
          <p:spPr>
            <a:xfrm>
              <a:off x="2819520" y="3200400"/>
              <a:ext cx="3733200" cy="2819160"/>
            </a:xfrm>
            <a:prstGeom prst="rect">
              <a:avLst/>
            </a:prstGeom>
            <a:solidFill>
              <a:srgbClr val="b7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9" name="Picture 25" descr="0009"/>
            <p:cNvPicPr/>
            <p:nvPr/>
          </p:nvPicPr>
          <p:blipFill>
            <a:blip r:embed="rId1"/>
            <a:stretch/>
          </p:blipFill>
          <p:spPr>
            <a:xfrm>
              <a:off x="3365640" y="3854520"/>
              <a:ext cx="2292480" cy="1262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ОГИЧЕСКОЕ УМНОЖЕНИЕ (КОНЪЮНК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ъюнкци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огическим умножение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двух высказывани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новое высказы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истинно только тогда, когда истинны оба высказыв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пис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=A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=A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ОГИЧЕСКОЕ УМНОЖЕНИЕ (КОНЪЮНК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уется соединением двух высказываний в одно с помощью союза "И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тим, из моего окна видна автостоянка, на которой обычно стоят две машины: “Мерседес” и “Жигули”, но может находиться и какая-то одна из них, или не быть ни одной. Обозначим высказыв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= На автостоянке стоит "Мерседес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= На автостоянке стоят "Жигули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конъюнкция В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автостоянке находятся "Мерседес" и "Жигули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ерация конъюнкции обознача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                                 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Λ; &amp;; *; and; 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Oval 2"/>
          <p:cNvSpPr/>
          <p:nvPr/>
        </p:nvSpPr>
        <p:spPr>
          <a:xfrm>
            <a:off x="4932360" y="1773360"/>
            <a:ext cx="576360" cy="431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3"/>
          <p:cNvSpPr/>
          <p:nvPr/>
        </p:nvSpPr>
        <p:spPr>
          <a:xfrm>
            <a:off x="3780000" y="1773360"/>
            <a:ext cx="576000" cy="4334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2251080"/>
          </a:xfrm>
          <a:prstGeom prst="rect">
            <a:avLst/>
          </a:prstGeom>
          <a:noFill/>
          <a:ln w="38160">
            <a:solidFill>
              <a:srgbClr val="00007d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КОНЪЮНКЦИЯ </a:t>
            </a: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логическое умножение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функциональная схема)</a:t>
            </a:r>
            <a:br>
              <a:rPr sz="2400"/>
            </a:b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a3685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y 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(x,y) = x</a:t>
            </a:r>
            <a:r>
              <a:rPr b="0" lang="en-US" sz="2800" spc="-1" strike="noStrike">
                <a:solidFill>
                  <a:srgbClr val="00007d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y =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x&amp;y = x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33">
            <a:hlinkClick r:id="" action="ppaction://hlinkshowjump?jump=previousslide"/>
          </p:cNvPr>
          <p:cNvSpPr/>
          <p:nvPr/>
        </p:nvSpPr>
        <p:spPr>
          <a:xfrm>
            <a:off x="8567640" y="6570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b7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Group 37"/>
          <p:cNvGrpSpPr/>
          <p:nvPr/>
        </p:nvGrpSpPr>
        <p:grpSpPr>
          <a:xfrm>
            <a:off x="2286000" y="3436920"/>
            <a:ext cx="4495320" cy="3276360"/>
            <a:chOff x="2286000" y="3436920"/>
            <a:chExt cx="4495320" cy="3276360"/>
          </a:xfrm>
        </p:grpSpPr>
        <p:sp>
          <p:nvSpPr>
            <p:cNvPr id="759" name="Rectangle 35"/>
            <p:cNvSpPr/>
            <p:nvPr/>
          </p:nvSpPr>
          <p:spPr>
            <a:xfrm>
              <a:off x="2286000" y="3436920"/>
              <a:ext cx="4495320" cy="3276360"/>
            </a:xfrm>
            <a:prstGeom prst="rect">
              <a:avLst/>
            </a:prstGeom>
            <a:solidFill>
              <a:srgbClr val="b7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Picture 36" descr="0006"/>
            <p:cNvPicPr/>
            <p:nvPr/>
          </p:nvPicPr>
          <p:blipFill>
            <a:blip r:embed="rId1"/>
            <a:stretch/>
          </p:blipFill>
          <p:spPr>
            <a:xfrm>
              <a:off x="3356280" y="4068720"/>
              <a:ext cx="2503440" cy="147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User</cp:lastModifiedBy>
  <dcterms:modified xsi:type="dcterms:W3CDTF">2023-09-04T05:47:53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