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05D-78CD-4460-9ED0-FE16F951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5DF-18FF-4EFA-A5F0-026D5D68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E09-5A71-4B1F-958B-0CDE824E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5FF-7E3D-4B3D-A2AD-F8444028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2D5-D626-47A8-8AAD-897431E0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D29-70A8-47A0-878F-7F316E0E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BA8-7308-4FFB-8715-7F11B493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CE0-6A42-427A-850E-AFBA6E75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046-0FD9-4A84-849B-6A7F633F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36F-08AD-41AF-9666-98911D2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ADD-EE36-495A-AC2C-15A7F52F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3AC-69F7-466C-92EF-B42E4303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616D-0FDE-4281-B1F6-AB4EC223B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7;&#1077;&#1088;&#1072;&#1090;&#1080;&#1074;&#1085;&#1072;&#1103;_&#1087;&#1072;&#1084;&#1103;&#1090;&#1100;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20B9-391B-4ADA-995E-B785E1431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ео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часть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перативной памя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ведённая для хранения данных, которые используются для формирования изображения на экране мони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выделенна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перативная память для видеокар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же называемая «Видеопамять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чипы оперативной памяти припаяны прямо к плате видеокарты, в отличие от съёмных модулей системной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ая Оперативная Память используется только под нужды различных графических приложений и иг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A5B2-A430-4514-B6D2-341E8E687C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достатки векторной граф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ный принцип описания изображения не позволяет автоматизировать ввод графической информации, как это делает сканер для растровой граф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D847-8786-4BCB-9681-C04E461E42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ов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 разделения цвета на составляющие компоненты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ветовой модел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омпьютерной графике применяются 2 основные цветовые модели: RGB и CM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488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CBFD-DFC1-439A-8AD8-C4D48AEBA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овая модель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G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351792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в данной цветовой модели состоит из трёх каналов. При смешении основных цветов (основными цветами считаются красный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елёный -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Gre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иний -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Bl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) — например, синего (B) и красного (R), мы получаем </a:t>
            </a:r>
            <a:r>
              <a:rPr b="0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фиолето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M magenta), при смешении зеленого (G) и красного (R) —</a:t>
            </a:r>
            <a:r>
              <a:rPr b="0" lang="ru-RU" sz="1800" spc="-1" strike="noStrike" u="sng">
                <a:solidFill>
                  <a:srgbClr val="ff9900"/>
                </a:solidFill>
                <a:uFillTx/>
                <a:latin typeface="Arial"/>
              </a:rPr>
              <a:t>ЖЕЛТ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yellow), при смешении зеленого (G) и синего (B) —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ианов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 cyan). При смешении всех трёх цветовых компонентов мы получае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л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 (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6264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844D-B730-49B8-9FCE-8246D78EB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овая 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вность каждого из трех цветов - это один байт (т. е. число в диапазоне от 0 до 255). Таким образом, цвет удобно записывать тремя бай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ярко-си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цвет может быть определён как (0,0,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</a:rPr>
              <a:t>25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к (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5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0,0),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ярко-фиолетовый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(255,0,255),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ярко-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(255,255,0), блед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ТЫ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(1,1,0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ёрный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(0,0,0), а белый — (255,255,2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420C-1D0F-4317-8406-87BA77565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овая модель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GB-цветовая модель представленная в виде куб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BDF3-8B64-4D52-977B-D17C041D3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ов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вая модель CMYK соответствует рисованию красками на бумажном листе и используется при работе с отраженным цветом, т. е. для подготовки печатных док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6048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6B41-9A99-4A67-AE0C-930A4A351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ветовая модел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MY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выми составляющими этой модели являются цвета: </a:t>
            </a:r>
            <a:r>
              <a:rPr b="0" lang="ru-RU" sz="2800" spc="-1" strike="noStrike" u="sng">
                <a:solidFill>
                  <a:srgbClr val="0099cc"/>
                </a:solidFill>
                <a:uFillTx/>
                <a:latin typeface="Arial"/>
              </a:rPr>
              <a:t>голуб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Cyan), </a:t>
            </a:r>
            <a:r>
              <a:rPr b="0" lang="ru-RU" sz="2800" spc="-1" strike="noStrike" u="sng">
                <a:solidFill>
                  <a:srgbClr val="9933ff"/>
                </a:solidFill>
                <a:uFillTx/>
                <a:latin typeface="Arial"/>
              </a:rPr>
              <a:t>лил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Magenta), </a:t>
            </a:r>
            <a:r>
              <a:rPr b="0" lang="ru-RU" sz="2800" spc="-1" strike="noStrike" u="sng">
                <a:solidFill>
                  <a:srgbClr val="ffc000"/>
                </a:solidFill>
                <a:uFillTx/>
                <a:latin typeface="Arial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Yellow)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чер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Black). Черный цвет задается отд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F95E-0823-4190-953D-556A552C7E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курса физики известно, что звук - это колебания воздуха. Если преобразовать звук в электрический сигнал (например, с помощью микрофона), мы увидим плавно изменяющееся с течением времени напряж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омпьютерной обработки такой - </a:t>
            </a:r>
            <a:r>
              <a:rPr b="0" lang="ru-RU" sz="2200" spc="-1" strike="noStrike">
                <a:solidFill>
                  <a:srgbClr val="800080"/>
                </a:solidFill>
                <a:latin typeface="Arial"/>
              </a:rPr>
              <a:t>аналогов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игнал нужно преобразовать 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ь двоичн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упают следующим образом. Измеряют напряжение через равные промежутки времени и записывают полученные значения в память компьютера. Этот процесс называется дискретизацией (или оцифровкой), а устройство, выполняющее его - аналого-цифровым преобразователем (АЦП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116000" y="4869000"/>
            <a:ext cx="694836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08C8-C59C-4B0C-9B7C-EB1D584B3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ого чтобы воспроизвести закодированный таким образом звук, нужно выполнить обратное преобразов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ля него служит цифро-аналоговый преобразователь - ЦАП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гладить получившийся ступенчаты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оцифровки сигнал дискретизируется п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о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уровн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ретизация по времени выполняется следующим образом: весь период времени Т разбивается на малые интервалы времен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чк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ся, что в течение интервала  уровень сигнала изменяется незначительно и может с некоторым допущением считать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BFDC-CD90-4AE7-88EE-8540DF692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/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  н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отой дискрет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Част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скретизац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тсчетов за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измеряется в герцах. (Гц) – количество измерений в течение с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ретизация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по уровн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вантов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ыполняется так: область измерения сигнала от самого малого знач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самого большо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вается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ых квантов, промежутков величино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точками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… ,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квант связывается с его порядковым номером, т.е. целым числом, которое легко может быть представлено в двоичной С.С. Если сигнал после дискретизации по времени попадает в промеж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му в соответствие ставится к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7216920" y="3679920"/>
            <a:ext cx="93492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609C-6168-4E52-9B5C-877F1A42F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графической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видеопамя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ходится двоичная информация об изображении, выводимом на экран. Почти все создаваемые с помощью компьютера изображения можно разделить на две категории -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тров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ктор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ф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тровые изобра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ют собой однослойную сетку точек, называемых пикселям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д пикс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ит информацию и о его ц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цифровка изображения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 оцифровк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е с помощью объектива проецируется на светочувствительную матрицу m строк и n столбцов, называемую растром. Далее оцифровывается яркость каждой точки по каждому цвету последовательно по всем строкам растра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9BEF-3CB3-438F-8ABD-453032058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4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искретизации звукового сиг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88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6AB3-0442-4DC3-8D9B-B22B5568A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уровней подбирается так, чтобы звук не имел высокого уровня шума и «электронного» оттенка звуч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е качество воспроизведения получается в формате лазерного аудиодиска при следующих параметрах оцифровки: частота дискретизации – 44,1 Кгц и выше, квантование – 16 бит или 24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екунда стереозвука при высоком качестве звука занимает пример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76 К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вой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1 сек звуковой записи телефонных переговоров  займет на диске 8000  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9828-0646-4D50-B579-307937749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35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4FF8-9991-49CC-898D-1052FF398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дирование зв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ер – программа (или устройство), реализующая определенный алгоритм кодирования данных (например, кодер MP 3), которая в качестве ввода принимает исходную информацию, а в качестве вывода возвращает закодированную информацию в определенном форма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одер – программа (или устройство), реализующая обратное преобразование закодированного сигнала в декодирова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DF65-F8F5-4B13-A062-B9CF79776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обенности растровой граф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ксели подобны зернам фотографии и при значительном увеличении они становятся заметными. Растровая карта представляет собой набор (массив) троек чисел: две координаты пикселя на плоскости и его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4007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52FF-924C-4CB7-8154-5F842359F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размера изображения, важной является информация </a:t>
            </a: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о количестве цв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кодированных в фай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для кодирования цвета отвести 8 бит - то такой рисунок может содержать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=256 различных цвет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0000000 до 11111111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 бит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=65 536 различных цветов (так называемый High Color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твести 24 бита, то потенциально рисунок может содержать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4=16 777 216 различных цветов и оттенков – что примерно соответствует восприятию цветов глазом человека. В последнем случае кодировка называется 24-bit True C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5A2C-CB12-4456-BEC5-FCD144EC6F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Растров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различных цветов -- К и количество битов для их кодировки -- N связаны между собой простой формулой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7439-6C2A-4DFB-85F4-605FF285A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меньше размер пикселя, тем больше </a:t>
            </a: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разреш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resolution), то есть, тем более мелкие детали можно закодировать в таком графическом фай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ы растровых изображений выражаются в виде количества пикселей по горизонтали и вертикали, например: 1600×1200. В данном случае это означает, что ширина изображения составляет 1600, а высота — 1200 точек (такое изображение состоит из примерно двух мегапиксел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1E16-ED70-4D34-82ED-E191FD71A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кто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логическим элементом векторной графики является геометрический объе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объекта принимаются простые геометрические фигур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ак называемые примитивы – точка, прямоугольник, окружность, эллипс, линия), составные фигуры или фигуры, построенные из примитивов, цветовые зал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95280" y="4287960"/>
            <a:ext cx="864072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EA6B-2AE7-4C9B-8909-ED2784F2F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кто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элемент векторного изображения является объектом, который описывается с помощью языка математических уравнений линий, дуг, окружностей и т. 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ые объекты (ломаные линии, различные геометрические фигуры) представляются в виде совокупности элементарных графических объ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ы векторного изображения, в отличии от растровой графики, могут изменять свои размеры без потери качества (при увеличении растрового изображения увеличивается зернистос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BB43-DB15-43D7-912A-140838D81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стоинства векторной граф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векторной графики много достоинств. Она экономна в плане дискового пространства, это связано с тем, что сохраняется не само изображение, а только некоторые основные данные, используя которые, программа всякий раз воссоздает изображение занов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кты векторной графики легко изменяются и модифицируются, что не оказывает практически никакого влияния на качество изображения. Масштабирование, поворот, искривление сведены к паре-тройке элементарных преобразований над векто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ом использования векторной графики является графический редактор 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elDra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все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9:12:17Z</dcterms:created>
  <dc:creator>Advanced</dc:creator>
  <dc:description/>
  <dc:language>en-US</dc:language>
  <cp:lastModifiedBy>Наталья</cp:lastModifiedBy>
  <dcterms:modified xsi:type="dcterms:W3CDTF">2018-08-30T10:16:58Z</dcterms:modified>
  <cp:revision>34</cp:revision>
  <dc:subject/>
  <dc:title>Слайд 1</dc:title>
</cp:coreProperties>
</file>