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900-0090-44C8-AB73-8E22EB8467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03DB-5486-44BA-9821-97EE5E563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BA82-CC6D-4B60-AAFE-C023D947C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E11C-DBAF-47EB-92FE-36F1A0C9A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4BE-D871-4B51-982A-7A9E5F4E7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E87-1E38-439C-B0C9-CB53476C63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FA8-FF82-439E-B1BF-51674E8E3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7E2-0EC5-4BD1-A6C6-EA133EC4E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9BB5-AC83-48A1-9418-14AAA838E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C2B-5146-4E40-9E57-11B521F94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AC6-1E83-4E92-9C80-3A2EB1193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0136-13EC-4215-8B05-134E72BA62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7770-75B1-48B7-8DFB-BD001409D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380A-A8D9-43EA-AE8C-572311F7E7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E6E-4297-43ED-BBEF-44F110A6B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2E3A-2812-4DAB-8996-4F66DD022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6DC8-5767-4AFC-B692-135EB25B01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E1E-6AA8-4593-B58D-E908B9F06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E1C8-1752-4EEC-B415-2AA388ECA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687-BA99-4B10-B8F6-7C1BF92F2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746-2ED9-41ED-B34D-AC047B597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4D4F-9179-43A8-B2B9-DC1477464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7268-AC35-4B15-AC68-070F88ECD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0E3-357D-444C-A45D-6A936FA67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2898-2503-4692-B2CA-374C63A98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01F3-6DEF-4966-BECA-CEE943167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0BA0-0D24-4B90-B9D6-EBD97D9FE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978E-3161-4F42-8C6C-D5C54BC2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E1C8-FBCD-4344-BF60-30100A8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6BCD-9C2E-45AB-8D1E-ED168A64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9FD9-B5F8-4FD6-87FD-AD7CE0C5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244B-53EC-489A-BB3D-1D0AEA2A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548E-D367-48C7-BC58-42605822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606-70BA-4D97-9D9F-9DC7C18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407-B4B5-4099-8777-BF2A3C8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A245-EE9C-41D1-8BD4-F1BE88B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CAAE-0AE0-48AE-8B25-3908B0E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34CE-627C-4C80-B1AD-79B4330E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5C60-AD8B-43EA-B682-F9946089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2C4A-C657-48DF-B41E-27D4F76A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998A-FBC1-4C38-85D7-B1AA0B3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23D7-322D-4CAA-9CD1-7A32024B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3E81-207B-4C81-B567-FEE046DC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91F-1FE2-4220-B720-075F5D2E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5D38-3EDA-4960-B94D-04B68608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1129-12E9-42C0-AE02-69472E8E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4803-535D-49F6-B8C3-AC6A586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F1F6-1F5F-4E92-894D-60A5D5A7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C696-CF47-4F77-9A8F-7C14AB2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3041-316C-422E-B3AD-071A6F80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5645-600A-453E-8810-B2596B9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7522-14E2-455C-B353-504A6B916F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B1CB-0C3F-4D9E-9C2E-EF329F3980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Windows_Server_2008_R2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5;&#1086;&#1075;&#1086;&#1079;&#1072;&#1076;&#1072;&#1095;&#1085;&#1086;&#1089;&#1090;&#1100;" TargetMode="External"/><Relationship Id="rId2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4;&#1080;&#1086;&#1085;&#1085;&#1072;&#1103;_&#1089;&#1080;&#1089;&#1090;&#1077;&#1084;&#1072;" TargetMode="External"/><Relationship Id="rId2" Type="http://schemas.openxmlformats.org/officeDocument/2006/relationships/hyperlink" Target="http://ru.wikipedia.org/wiki/Windows_NT" TargetMode="External"/><Relationship Id="rId3" Type="http://schemas.openxmlformats.org/officeDocument/2006/relationships/hyperlink" Target="http://ru.wikipedia.org/wiki/Windows_Vista" TargetMode="External"/><Relationship Id="rId4" Type="http://schemas.openxmlformats.org/officeDocument/2006/relationships/hyperlink" Target="http://ru.wikipedia.org/wiki/Windows_Vis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Microsoft_Internet_Explorer" TargetMode="External"/><Relationship Id="rId2" Type="http://schemas.openxmlformats.org/officeDocument/2006/relationships/hyperlink" Target="http://ru.wikipedia.org/wiki/Microsoft_Outlook_Express" TargetMode="External"/><Relationship Id="rId3" Type="http://schemas.openxmlformats.org/officeDocument/2006/relationships/hyperlink" Target="http://ru.wikipedia.org/wiki/Microsoft_Windows_Media_Player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75;&#1088;&#1072;&#1084;&#1084;&#1085;&#1086;&#1077;_&#1086;&#1073;&#1077;&#1089;&#1087;&#1077;&#1095;&#1077;&#1085;&#1080;&#1077;" TargetMode="External"/><Relationship Id="rId2" Type="http://schemas.openxmlformats.org/officeDocument/2006/relationships/hyperlink" Target="http://ru.wikipedia.org/wiki/Microsoft" TargetMode="External"/><Relationship Id="rId3" Type="http://schemas.openxmlformats.org/officeDocument/2006/relationships/hyperlink" Target="http://ru.wikipedia.org/wiki/Microsoft_Office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50;&#1086;&#1084;&#1087;&#1100;&#1102;&#1090;&#1077;&#1088;&#1085;&#1072;&#1103;_&#1087;&#1088;&#1086;&#1075;&#1088;&#1072;&#1084;&#1084;&#1072;" TargetMode="External"/><Relationship Id="rId3" Type="http://schemas.openxmlformats.org/officeDocument/2006/relationships/hyperlink" Target="http://ru.wikipedia.org/wiki/&#1050;&#1086;&#1084;&#1087;&#1100;&#1102;&#1090;&#1077;&#1088;" TargetMode="External"/><Relationship Id="rId4" Type="http://schemas.openxmlformats.org/officeDocument/2006/relationships/hyperlink" Target="http://ru.wikipedia.org/wiki/&#1060;&#1072;&#1081;&#1083;" TargetMode="External"/><Relationship Id="rId5" Type="http://schemas.openxmlformats.org/officeDocument/2006/relationships/hyperlink" Target="http://ru.wikipedia.org/wiki/&#1055;&#1088;&#1080;&#1082;&#1083;&#1072;&#1076;&#1085;&#1086;&#1077;_&#1087;&#1088;&#1086;&#1075;&#1088;&#1072;&#1084;&#1084;&#1085;&#1086;&#1077;_&#1086;&#1073;&#1077;&#1089;&#1087;&#1077;&#1095;&#1077;&#1085;&#1080;&#1077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9;&#1077;&#1074;&#1076;&#1086;&#1087;&#1072;&#1088;&#1072;&#1083;&#1083;&#1077;&#1083;&#1100;&#1085;&#1086;&#1077;_&#1074;&#1099;&#1087;&#1086;&#1083;&#1085;&#1077;&#1085;&#1080;&#1077;_&#1079;&#1072;&#1076;&#1072;&#1095;&amp;action=edit&amp;redlink=1" TargetMode="External"/><Relationship Id="rId2" Type="http://schemas.openxmlformats.org/officeDocument/2006/relationships/hyperlink" Target="http://ru.wikipedia.org/wiki/&#1052;&#1085;&#1086;&#1075;&#1086;&#1079;&#1072;&#1076;&#1072;&#1095;&#1085;&#1086;&#1089;&#1090;&#110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60F-C5F9-48D5-AD4B-0F4A02E36F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ограммное обеспечение компьютеро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6021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Информатик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12000" y="6553080"/>
            <a:ext cx="13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9-20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D32-7C2E-41C7-81FA-52185163D5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днопользовательские многозадач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оторые обеспечивают одному пользователю параллельную обработку нескольких задач. Например, к одному компьютеру можно подключить несколько принтеров, каждый из которых будет работать на "свою" задач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S WINDOW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версии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X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ногопользовательские многозадач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озволяющие на одном компьютере запускать несколько задач нескольким пользователям. Эти ОС очень сложны и требуют значительных машинных ресур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r>
              <a:rPr b="1" lang="en-US" sz="2200" spc="-1" strike="noStrike">
                <a:solidFill>
                  <a:srgbClr val="0000bc"/>
                </a:solidFill>
                <a:latin typeface="Arial"/>
              </a:rPr>
              <a:t>MS WINDOWS X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S WINDOWS 7, 8,10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0099"/>
                </a:solidFill>
                <a:latin typeface="Arial"/>
              </a:rPr>
              <a:t>UNIX, Linu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61D-1DCA-4A15-ADD6-6CFEB73104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м уровне находя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вер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рверы представляют собой очень мощ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многопроцессорные) компьютер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производительностью до 100 млн. операц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ОС одновременно обслуживают множество пользователей и позволяют им делить между собой программно-аппаратные ресурсы. У Internet-провайдеров обычно работают несколько серверов для того, чтобы поддерживать одновременный доступ к сети множества клиентов. На серверах хранятся страниц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айтов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батываются за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indows Server 2008 R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s Serve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9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типичными серверными ОС. Теперь для этой цели стала использоваться и операционная 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4F8C-C5FD-41F1-8362-3CA4A2718E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ую категорию составля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 для персональных компьютер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х работа заключается в предоставлении удобного интерфейса для одного пользователя. Основными ОС в этой категории являю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P, 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пределенные версии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0B1-A2AB-4B1A-8A2C-B0C610D9D6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40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т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ю́н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группа переносимых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ногозадач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гопользовательских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перацио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клон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называетс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ычной особенностью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является ее бизнес-модель: это свободно распространяющееся программное обеспечение. Ее можно скачать с различных Internet-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йтов, например www.kernel.org. Система Linux поставляется вместе с лицензией разработанной Ричардом Столманом, основателем Фонда бесплатно распространяемых програм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B91F-6A0A-44E8-AE7F-79396AF95A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ОС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дназначена для опытных программистов. Это мощная и гибкая система. Она характеризуется небольшим количеством базовых элементов, которые можно комбинировать бесконечным числом способов, чтобы приспособить их для конкретного приложения. Одно из основных правил системы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заключается в том, что каждая программа должна выполнять всего одну функцию, но делать это хорошо. В системе устранена бесполезная избыточнос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UNIX доминирует на серверах, но она также используется и в ноутбуках и суперкомпьютерах. Система UNIX демонстрирует множество важных принципов построения ОС, многие из которых были позаимствованы другими операционными систем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141-DA15-48D8-978F-6D0D87492D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Операционные системы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Unix </a:t>
            </a:r>
            <a:r>
              <a:rPr b="1" lang="ru-RU" sz="3800" spc="-1" strike="noStrike">
                <a:solidFill>
                  <a:srgbClr val="0000bc"/>
                </a:solidFill>
                <a:latin typeface="Arial"/>
              </a:rPr>
              <a:t>и </a:t>
            </a:r>
            <a:r>
              <a:rPr b="1" lang="en-US" sz="3800" spc="-1" strike="noStrike">
                <a:solidFill>
                  <a:srgbClr val="0000bc"/>
                </a:solidFill>
                <a:latin typeface="Arial"/>
              </a:rPr>
              <a:t>Linu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графические интерфейсы очень удобны, но они обладают недостаточной гибкостью и не дают представление о том, как работает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которых версиях системы, интерфейс пользователя с командной строкой был заменен графическим интерфейсом, ориентированным на использование мыши, для чего не потребовалось никаких изменений в сам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C255-7813-4A77-B77E-FD0C0F2617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Виды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один вид ОС – э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ы реального врем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параметром таких систем является время. Например, в системах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управления производ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ы, работающие в режиме реального времени, собирают данные о текущем промышленном процессе и используют их для управления оборудованием. Такие процессы должны удовлетворять жестким временным требованиям. Если, по конвейеру передвигается автомобиль, то каждое действие должно быть осуществлено в строго определенный момент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5DF9-4BD0-46D7-BF0D-2FBE2FAC12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евое понятие ОС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роцессом называют программу в момент ее выполнения. С каждым процессом связывается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ное простран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писок адресов в памяти от некоторого минимума до некоторого максимума. По этим адресам процесс может занести информацию и прочесть ее. Адресное пространство содержит саму программу и данные к 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D4C0-D7DE-49BF-8394-5DC8B2FDFA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ногозадачной системе процессор переключается между программами, предоставляя каждой от десятков до сотен миллисекун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 каждый конкретный момент времени процессор занят только одной программой, но за секунду он успевает поработать с несколькими программами, создавая у пользователей иллюзию параллельной работы со всеми программами, разделяющих общую память между соб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047-AD9E-420F-8659-5C01EB7F1C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огда вы запускаете текстовый процессор или программу калькулятора, вы создаете новый проце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ак правило, процесс завершается по мере выполнения своей работы. В текстовых редакторах браузерах и других программах такого типа есть кнопка или пункт меню, с помощью которых  можно завершить проце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83E-A4D3-442B-A2FD-58768B1397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Под программным обеспечением (Software) понимается совокупность программ, выполняемых вычислительной системой</a:t>
            </a:r>
            <a:r>
              <a:rPr b="1" i="1" lang="en-US" sz="2800" spc="-1" strike="noStrike">
                <a:solidFill>
                  <a:srgbClr val="0000b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605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542-0BC6-4908-88B9-2D96BFD6E1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о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hread» переводится как «нить», «поток», «облегченный процесс», «минизадача»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роцесса операционная система создает один главный </a:t>
            </a: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ото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й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оком выполняющихся по очереди команд центрального процессо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необходимости главный поток может создавать другие потоки, пользуясь для этого программным интерфейсом операцио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токи, созданные процессом, выполняются в адресном пространстве этого процесса и имеют доступ к ресурсам процесса. Однако поток одного процесса не имеет никакого доступа к ресурсам потока другого процесса, так как они работают в разных адресных пространств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се потоки в процессе будут ликвидированы, процесс прекратит свое сущ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109-9F47-422B-969A-74754E6523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7d"/>
                </a:solidFill>
                <a:latin typeface="Arial"/>
              </a:rPr>
              <a:t>Базовые понятия операционных систе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центральная часть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перационной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дро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о находится в оперативной памяти; управляет всей операционной систем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9BC-0E75-487D-BB5D-06AC7623C3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3800"/>
            </a:b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MS Wind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90-х годов во всем мире огромную популярность приобрела графическая оболоч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MS-Windows 3.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 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облегчала использование компьютера, и её графический интерфейс вместо набора сложных команд с клавиатуры позволя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 их мышью из меню практически мгнов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компьютеров в мире работают под управлением той или иной версии операционной среды Windows фирмы Microso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уем наиболее распространенные ве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C3D-F2DD-41F7-9188-CCD48153B2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4200" spc="-1" strike="noStrike">
                <a:solidFill>
                  <a:srgbClr val="00007d"/>
                </a:solidFill>
                <a:latin typeface="Arial"/>
              </a:rPr>
              <a:t> Windows X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ая операционная система, специально разработанная компанией Microsoft так, чтобы она соответствовала требованиям как личных, так и корпоративных пользо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ое переключение 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нескольким пользователям иметь доступ к одному и тому же компьютеру без нарушения индивидуальных настроек, программ и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даленная поддерж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вам контролировать клавиатуру и следить за экраном монитора своего компьютера через любой компьютер с Windows 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BC3-F454-4EDB-9FDF-1CB3C0E9A5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пер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мейства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indows 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ледующая за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indows Vi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 поступила в продажу 22 октября 2009 г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через три года после выпуска предыдущей операционной системы,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ndows Vi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DCF-BC49-4B41-9783-FD9A40C46E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indows 7 имеет шесть реда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ar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ля продажи, обычно предустановлена на нетбу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базов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ome Basic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яя расширен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ome Prem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поратив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nterpr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ля продажи частным 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Ul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701-2BA5-41D1-AD1D-0A4D4802C7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</a:t>
            </a: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извана стать единой для разных устройств, таких как персональные компьютеры, планшеты, смартфоны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а единая платформа разработки и единый магази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версальных прилож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вместимых со всеми поддерживаемыми устройст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я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честве усл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ыпуском обновлений на протяжении всего цикла поддержки. В течение первого года после выхода системы пользователи могут бесплатно обновиться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устройствах под управлением легальных Windows 7, Windows 8.1 и Windows Phone 8.1. Среди значимых нововведений — голосовая помощница Кортана, возможность создания и переключения нескольких рабочих сто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7477-D68E-4401-B35D-8BE8B71896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r>
              <a:rPr b="1" i="1" lang="en-US" sz="3800" spc="-1" strike="noStrike">
                <a:solidFill>
                  <a:srgbClr val="00007d"/>
                </a:solidFill>
                <a:latin typeface="Arial"/>
              </a:rPr>
              <a:t> Windows </a:t>
            </a:r>
            <a:r>
              <a:rPr b="1" i="1" lang="ru-RU" sz="38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ензионное соглаш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indows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компании Microsoft собирать многочисленны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ведения о пользовате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торию его интернет-деятельности, пароли к сайтам и точкам доступа, данные, набираемые на клавиатуре и многое друг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A8CD-516E-4A4E-9733-CA341E5783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bc"/>
                </a:solidFill>
                <a:latin typeface="Arial"/>
              </a:rPr>
              <a:t>тандартные при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964720" cy="431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Microsoft Windows включает в себя стандартные приложения, такие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браузе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Internet Explor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почтовый клиен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utlook Expres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проигрывател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indows Media Play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продукты позиционируются как бесплатные и могут быть свободно скачаны с официального сайта Microsoft, однако для установки некоторых из них необходимо иметь действующую лицензию Microsoft Wind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2E37-DDD6-4857-8101-F6A3BB8D8C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bc"/>
                </a:solidFill>
                <a:latin typeface="Arial"/>
              </a:rPr>
              <a:t>тандартные при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6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3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факта включения стандартных продуктов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 Window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горается много споров и дискуссий, поскольку это создает серьёзное препятствие для распространения конкурирующих 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рте 2004 года Европейская антимонопольная комиссия оштрафовала Майкрософт и обязала создать для продажи в Европе версию Windows без </a:t>
            </a:r>
            <a:r>
              <a:rPr b="0" i="1" lang="ru-RU" sz="2400" spc="-1" strike="noStrike">
                <a:solidFill>
                  <a:srgbClr val="0000bc"/>
                </a:solidFill>
                <a:latin typeface="Arial"/>
              </a:rPr>
              <a:t>Windows Media Player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а компания Майкрософт продолжает отстаивать своё право включать свои продукты в пакет Windows и разрабатывает новые интегрированные проду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B1AB-C2AE-4E6A-867B-8AA1C36E3B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рограммы, работающие на компьютере, можно условно разделить на три категор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иклад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посредственно обеспечивающие выполнение необходим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ьзователя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ыполняющие различ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е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ресурсами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пий используем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работоспособности устройств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ча справочной информации о компьютере и д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инструментальные программные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легчающие процесс создания новых программ для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cal ABC, Visual Basic,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9305-2F59-4023-B819-554DF4C2CD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Операционная система </a:t>
            </a:r>
            <a:br>
              <a:rPr sz="4000"/>
            </a:b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 Windows</a:t>
            </a: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 Преемственность программ 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8964720" cy="431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тная совмести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менительно к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рограммному обеспеч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значает способность более поздних версий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ть с файлами, созданными более ранней версией этой же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например,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сутствует поддержка целого ряда форматов, которые на данный момент почти не используются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C07-11B6-4728-86CF-51DDE7EDDD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Программное обеспеч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Драйверы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Драйвер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программа, с помощью которой операционная система получает доступ к аппаратному обеспечению стандартным обр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случае для использования каждого устройства, подключённого к компьютеру, необходим специальный драйвер. Обычно с операционными системами поставляются драйверы для ключевых компонентов внешних устройств, без которых система не сможет рабо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ля более специфических устройств (таких, как видеоадаптер или принтер) могут потребоваться специальные драйверы, обычно предоставляемые производителем устр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28E-F122-4744-AFF9-8E26D385DD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Arial"/>
              </a:rPr>
              <a:t>Драйверы устройст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йвер устройства выполняет несколько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Обработку чтения и записи независимого от вида устройств и расположенного над ними программного обеспе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Инициализацию 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правление энергопотреблением устройства и регистрацией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верку входных параметров. Если они не удовлетворяют определенным критериям, драйвер возвращает ошиб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роверку использования устройства в данный момент. Если устройство занято, запрос может быть поставлен в очередь. Если устройство свободно, проверяется состояние устройства. Возможно, требуется включить устройство или запустить двигатель, прежде чем начнется перенос данных. Как только устройство готово, может начинаться собственно управление устройством.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374B-FCB2-4488-8DD5-D72FF214F4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Служебно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ажными классами системных программ являются программы вспомогательного назначения — </a:t>
            </a: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утилиты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 Они либо расширяют и дополняют соответствующие возможности операционной системы, либо решают самостоятельные важные задач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ратко опишем некоторые разновидности </a:t>
            </a:r>
            <a:r>
              <a:rPr b="1" i="1" lang="ru-RU" sz="2300" spc="-1" strike="noStrike">
                <a:solidFill>
                  <a:srgbClr val="00007d"/>
                </a:solidFill>
                <a:latin typeface="Arial"/>
              </a:rPr>
              <a:t>утилит: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программы контрол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тестирования и диагностики состояния компьютера, которые используются для проверки устройств компьютера и для обнаружения неисправностей; указывают причину и место неисправ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bc"/>
                </a:solidFill>
                <a:latin typeface="Arial"/>
              </a:rPr>
              <a:t>программы-упаковщи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(например, архиваторы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nZip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), которые позволяют записывать информацию на дисках более плотно, а также объединять копии нескольких файлов в один архивный файл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1A5B-DCD9-4261-81D6-68398C426F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Служебное программы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Утили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антивирус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едназначенные для предотвращения заражения компьютерными вирусами и ликвидации последствий заражения виру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оптимизации и контроля качества дискового простран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восстановления информации, защит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для записи компакт-ди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программы – конвертеры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тируют файлы из одного формата в другой – однотипный,</a:t>
            </a: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oPDF7.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DF конвер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создавать PDF файлы из документов формата Microsoft Excel, Word или PowerPoint, а также из электронной почты и ваших любимых веб сайт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ACA1-6E2A-4361-B5DC-382E7C664B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зора программ-архиваторов (упаковщико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оня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жат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79280" y="234576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рхивировании и передаче по каналам связи основным параметром является объем информ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этому модели представления дополняются процедурами сжатия, т.е. плотной упаковкой информаци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и применяется два типа алгоритмов сжатия: сжатие 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менением структуры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но происходит без потери данных) и сжат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частичной потерей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B57-A971-4232-A149-9D069974B1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 второго типа полностью восстановить оригинал не позволяют и, потому применяются для хранения графики или зву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екстов, чисел или программ они непримен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архиваторы используют в какой-либо модификации эти два метода кодирования информации. Самым популярным архиватором явля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ъясняется это тем, что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ется мировым стандартом архивирования и имеет самую длительную историю развития. Большинство архивов в Internet также имеют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7609-FC63-48BA-8EA4-CAE7B13AE1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RA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изнанный лидер среди программ-архиваторов по удобству и массовости применения, поддерживающий в настоящее время самый большой набор языков, включая русский. При этом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ольшинстве случаев обеспечивает значительно лучшее сжатие, ч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Форма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ащен несколькими очень важными функциями, отсутствующими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, позволяет восстановить физически поврежденный файл, и функцию блокировки архивов для предотвращения случайной модификации особенно ценных д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исло его основных особенностей входят: полная поддержка архив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наличие графической оболочки; создание самораспаковывающихс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архив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47F-CAE5-4DE9-A1BC-D2FFFEE019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c"/>
                </a:solidFill>
                <a:latin typeface="Arial"/>
              </a:rPr>
              <a:t>Системные програм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ыполняются вместе с прикладными и служат для управления ресурсами компьютера — центральным процессором, памятью, вводом-выв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рограммы общего пользования, которые предназначе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ля всех 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 разрабатывается так, чтобы компьютер м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 выполнять приклад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истемному ПО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Операционные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Служебные программы( утил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Драйверы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Антивир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2"/>
                </a:solidFill>
                <a:latin typeface="Arial"/>
              </a:rPr>
              <a:t>5.    Архивато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4DEC-13BC-4B89-B5C1-25DF4B149D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различных системных программ особое место заним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базовый комплекс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мпьютерны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еспечивающий управление аппаратными средствами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компьют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боту с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файл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выполне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ужеб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кладны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ключении компьютера операционная система загружается в память раньше остальных программ и затем служит платформой и средой для их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C969-D494-47CB-8BEC-DC3D913266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ая система обычно хранится во внешней памяти компьютера — на диске. При включении компьютера она считывается с дисковой памяти и размещается в ОЗ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процесс называется загрузкой операцион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AB8-0C51-4936-B788-4EE2A2755D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функции (простейшие) 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узка приложений в оперативную память и их выполнени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изованный доступ к периферийным устройст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оперативной памя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е операции, поддержка сетевых  протоко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77E-DB51-4D02-8CD6-2CD7B43112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полнительны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ое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выполнение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многозада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самой системы, а также пользовательских данных и программ от злонамеренных действий пользователей или прилож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граничение прав доступа и многопользовательский режи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E317-0EFB-4A56-A0A2-5A8A3F88B6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bc"/>
                </a:solidFill>
                <a:latin typeface="Arial"/>
              </a:rPr>
              <a:t>Операцио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количества одновременно обрабатываемых задач и числа пользователей, которых могут обслуживать ОС, различают три основных класса операционных систе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нопользовательские однозадач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поддерживают одну клавиатуру и могут работать только с одной (в данный момент) задач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ий пример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 D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6T10:33:52Z</dcterms:modified>
  <cp:revision>1296</cp:revision>
  <dc:subject/>
  <dc:title>Слайд 1</dc:title>
</cp:coreProperties>
</file>