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E110-E740-4B5E-93C5-497F37E503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CD57-FD11-4462-8A11-49903FF19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86E8-137F-4D17-97C8-485CA79F8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83D9-0BDC-466B-92D0-A02C696959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BE41-96A5-4ACE-A213-01E08BE08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1970-DC80-4C2B-BDB4-1073A00C0C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BA59-C8F7-4D3A-AF8E-323CA948E4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043D-3CEF-46EF-83C1-E863C8A79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EB29-D748-4189-A0FD-1AF9E800A2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035E-2B8A-4D7F-9F88-377C2ECE5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56C0-71AB-42EC-86C6-78280E277B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E3D7-8516-4BDD-B4E0-56095FA15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4E6A-02EE-426D-92B2-2B0A7E76D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8321-BC3E-45F1-9B3F-DC6F7409A7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6168-CDE3-4DC4-9A8B-9819DA26C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0916-037E-4E9E-98D7-19DA711913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9B8A-9691-4FB1-B67C-72A5725CC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42B6-A679-405A-8AEE-669052A08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3792-57FD-4437-93B1-58E447F8D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6A32-A40C-465F-B3BE-FFE72867D9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71F5-FE95-4328-8FD3-85455D6C23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503D-9C5D-4C94-9F4D-3F8BE1BBE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D054-E246-461C-9726-4C017E6D52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ABBE-5043-4947-88F3-49AE5C07C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1360-2F19-4B61-8813-CE7FD4BBD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E409-E554-4FBA-9E10-08F6A8B360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75BA-2B81-4674-BEE9-F4CCC2F87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D196-449D-47D5-9ACE-BF87D204A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4EE6-8DBE-4747-8FB6-CECE1BAABC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AF3E-01BF-49CF-A59E-493E63431B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8B6D-A536-4925-9707-6B230B5BF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4056-18C6-469E-B2D4-D15FF5F18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21F2-68B8-437F-A308-E0B34A436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108B-2C3B-48DE-96B1-8E8DE88E1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5101-3CE3-4BBA-BA04-4B852A3C7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A852-99B5-4784-AB3F-A4FFB46B9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887F-ED3A-47D2-9886-FF92AA211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19F5-6B2F-4BAE-AFDC-B9716FE2F9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9A0A-E691-41C6-A29D-91D239FC8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E7E3-A33B-428F-95C3-267253F8A9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3A45-7091-4DB6-B172-40B4239783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A869-4142-41D3-B0FF-129BD959B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7469-351F-4FC4-B3D1-D27F987DDA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2F20-FEA7-4EE8-82F9-2B93B483A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54FA-4E9D-4E89-8D53-9DF731542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787B-5724-45EF-B9D8-53415C6D5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B53B-10C7-4D81-A9CB-8669D2DA9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1AE9-D115-4B91-B31A-B2D79E7A85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A98D-6019-4C00-901B-5C64EA03C5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465C-10A7-4507-A6EC-068D0BC14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C494-9099-4572-B0E7-33A8EBF704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E633-FFA7-4B5C-8198-FC8045CFFF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B3F2-79A5-42D0-B0CC-D586FC3EC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471A-01F1-442B-AD0A-7B13033A2B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C0A1-E0D1-44FA-9860-3F1BD85E3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927F-FAA4-4267-8ADE-EE6D3B2E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7167-98BD-493B-AACA-F8F135C3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AE77-4862-43F3-8797-EFD39425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5475-2688-45E6-A604-A9B0B190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1DF7-101E-4CBC-BBFB-5212D11D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6099-C6DA-47D5-B850-2A59DF17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EB8C-CDA8-48D9-B317-DF90D7C9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353C-4862-4E66-8EB9-252A9789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6F00-67D5-4274-A9F6-7EF9BC1E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495B-B0A2-4BBB-B711-AB6342E5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D5F9-4605-498D-8CAB-DB4BBF3A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FECCC-F9F8-4A28-A1F1-A50B9EE6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B476-0D6A-45AE-A725-CD168666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870B-93F1-40A7-95B9-88FBAFB1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5809-FE62-4DE3-B49A-01B56887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C672-9241-463A-98B6-62C2FACA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6106-5B5C-4951-B2C4-29C42E0D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313C-BF1C-4D55-B7A6-7740A2EF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F120-9F75-4C3C-8474-D412DC47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B7AB-AA38-4066-BC66-7BDE74FD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A81E-EF89-4444-8967-98D9CA75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7922B-D114-4E72-9AE6-82A658BD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99522-5070-4C54-ABE2-0E9D41A8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93C6-236F-4AA6-917D-17D08CD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C86C-B28A-4606-9A6B-C2D2AFCB51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C93F-F6A2-4A47-8EDC-ADD7B8B458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ADE5-A42F-4DEC-938F-791CF2E895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Предмет и основные понятия информатик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4656-96E6-450B-968D-D3851BF522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совокупность сведений (данных), которая воспринимается из окружающей среды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н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выдается в окружающую среду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н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ли сохраняется внутри определен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FE3C-9895-42AD-A0B4-A65A8E2B98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рвых этапах носителем данных был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информация от одного человека к другому передавалась устно. Этот способ передачи информации был не надеж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ре развития цивилизации, объемы информации росли, и человеческой памяти стало не хватать; появилас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сьм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еликое изобретение, было сделан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умер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оло шести тысяч лет наз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ился смысл информационных сообщений. Появилась возможность </a:t>
            </a:r>
            <a:r>
              <a:rPr b="0" i="1" lang="ru-RU" sz="2400" spc="-1" strike="noStrike">
                <a:solidFill>
                  <a:srgbClr val="9900cc"/>
                </a:solidFill>
                <a:latin typeface="Arial"/>
              </a:rPr>
              <a:t>обобщать, сопоставлять, переосмыслив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нее сохраненные с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712A-9465-41B5-A04C-E1823FFC3F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о дало толчок развитию истории, литературы, точным  наукам и в конечном итоге изменило общественную жизнь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зобретение письменности характеризует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ервую информационную революцию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E450-D40E-444E-B2E8-060D381802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ее накопление человечеством информации привело 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ю числа пользователей информац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исьменные труды одного человека могли быть достоянием небольшого окру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шее противоречие было разрешено создание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чатного стан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был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торая информационн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чалась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 к информации перестал быть уделом избранных, появилась возможность многократно увеличи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обмена информаци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ивело к масштабным изменениям в </a:t>
            </a:r>
            <a:r>
              <a:rPr b="0" i="1" lang="ru-RU" sz="2400" spc="-1" strike="noStrike">
                <a:solidFill>
                  <a:srgbClr val="0000e5"/>
                </a:solidFill>
                <a:latin typeface="Arial"/>
              </a:rPr>
              <a:t>науке, культуре и обществен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7334-496B-4FE7-89F7-BF63904317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етья информационная револю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вязывается с </a:t>
            </a:r>
            <a:r>
              <a:rPr b="0" lang="ru-RU" sz="2800" spc="-1" strike="noStrike">
                <a:solidFill>
                  <a:srgbClr val="0000e5"/>
                </a:solidFill>
                <a:latin typeface="Arial"/>
              </a:rPr>
              <a:t>открытием электричеств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явлением (в конц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 на его основ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ы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едств коммуник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фо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и накопления информации для тех времен стал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истине безгранич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скорость обмена очень выс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F0E8-FB40-48A3-A668-9C97AEC2D8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середине ХХ века, появились быстрые технологические процессы, управлять которыми человек не успе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управления могла решаться только с помощью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универсальных автома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обрабатывают данные и выдают решение в форме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правляющих команд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ейчас эти автоматы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пьют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96FB-F432-4907-9C1C-7092E0D525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 жизни челове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е время отмечается как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твертая информационная революц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елями информации стали миллионы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ились дешевые компьют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ступные миллионам пользова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D686-6826-4A28-95C6-3989F7881D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ы для совместного участия в информационном процессе соединяются в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компьютерные се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явилас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мирная компьютерная сеть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Интерн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формирован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ровое информационное простра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56DB-68B3-42F2-B2BE-DF19879CAC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я в жизни челове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ших глазах появляется, так называемое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формационное общ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де акцент внимания и значимости смещается с традиционных видов ресурсов (материальные, финансовые, энергетические и пр.) н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формационный ресур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й, хотя всегда существовал, но не рассматривался как экономическая катего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6E38-7ABC-4B8B-9235-39A6960AFA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Информационный ресурс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дготовленные людьми для социального использования в обществе и зафиксированные на материальном носите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страны, региона, организации все чаще рассматриваются как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тратегические ресур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налогичные по значимости запасам сырья, энергии, ископаемых и прочим ресурс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4D3C-22DF-4352-9F2D-C3AF0E2D3E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этой лекции мы рассмотри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информатика, и что мы будем изучать в рамках курса «Информатика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информация, и история развития понятия «информация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нфор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это и наука, и область прикладных исследований, и учебная дисципл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8596-5ABB-46E9-B311-B8EA46E124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жнейшие свойства информ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ктивность и субъе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вер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екват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0FE7-DFD9-4FB7-A30F-C024DF621F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одирование информации. Системы счисле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екция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E7FF-2D43-4C07-B239-13F789BB9A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была возможность работы с данн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видо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екст, звук, графика и т.п.), необходим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ифицирова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 их предст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жно сделать с помощью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одировани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анием мы занимаемся довольно часто, например, человек мыслит весьма расплывчатыми понятиями, и, чтобы донести мысль от одного человека к другому, примен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 – это система кодирования пон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писать слова языка, применяется, опять же, кодирование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збу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809C-47B5-4178-ABE3-961D7A05DA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бработки различных видов информации на компьютере требуетс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ниверсальная система кодир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ычислительной технике использ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ичное код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о основано на представлении данных последовательностью всего двух знаков: 0 и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знаки называются двоичными цифрами, по-английски —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nary dig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сокращенн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921D-46EF-4B99-8F8F-92E07774D2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битом могут быть выражены два понятия: 0 или 1 (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да или 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е или бел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истина или лож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 п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оличество битов увеличить до двух, то уже можно выраз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 различных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     01       10   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мя битами можно закодир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ем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значений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0   001    010    011     100    101     110   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емь бит или 1 байт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56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78B7-62C6-4AFA-8ED6-E76AC4F148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ичество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вая на единицу количество разрядов в системе двоичного кодирования, мы увеличиваем в два раза количество значений, которое можно закодир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ая формула имеет ви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независимых кодируемых зна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яя формула наз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ормулой Шенн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частный случа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370A-7D90-4043-B7E7-7CB2EEFEF4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личество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слишком мелкая единица измерения информации. На практике чаще примен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й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бай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для того, чтобы закодировать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имволы алфав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клавиши клавиат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минимальной единицей адресуемой памяти компьюте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обратиться в память можно к байту, а не би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Бай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би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крупные производ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ицы информ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Килобайт (Кбайт) = 1024 байт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бай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Мегабайт (Мбайт) = 1024 Кбайт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бай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игабайт (Гбайт) = 1024 Мбайт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бай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Терабайт (Тбайт) = 1024 Гбайт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0 бай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Петабайт  (Пбайт)=  1024 Тбайт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^5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бай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BB38-4073-4918-969B-84825729CC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чисел можно закодировать нулями и единицами в 10 позициях (10 битах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байт нужно отвести для записи числа 1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D474-F309-4C9D-AF25-FAFACC92C1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 десяти битах можно закодирова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1024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В одном байте можно записать числа от 0 до 255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1 (1 байт = 8 бит)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 1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255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овательно для записи этого числа одного байта м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байта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т. Следовательно в двух байтах можно записать числа от 0 до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1= 6553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кольку 655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00, то для записи заданного числа нужно отвести 2 бай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4D5B-3E28-45EC-AF70-8946A2E3DC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чейки памяти ЭВ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арная ячейка памяти ЭВМ имеет длину 8 бит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й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Каждый байт имеет свой номер (его называют адрес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ую последовательность бит, которую ЭВМ может обрабатывать как единое целое,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ым слов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машинного слова зависит от разрядности процессора и может быть равной 16, 3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6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там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77BF-7D79-4FE0-9614-1DE0E811A5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лексная, техническая нау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способ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у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копл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ра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образов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еда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защи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с помощью средств вычислительной техники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AA02-8473-41EA-98B5-8AD4D8376F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80936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способ изображения чисел и соответствующие ему правила действия над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системах счисления величина знака, которую он обозначает, не завис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оложения этого знака в записи числа , то он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зицион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ами счисления . Например, римские циф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С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числения, в которой значение каждой цифр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висит от мес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овательности цифр в записи числа,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иц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ример, общепринятая  десятичная система счисления является позицио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BCD1-BD4E-4D3F-B070-72654FE3874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используемых цифр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зиционной системы счисления. Обозначается осно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употребительной формой записи числа является сокращенная форма записи разложени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 степеням основания сис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D102-A0A7-49A5-8973-BC5E0CB8EB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снование системы счисления равн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анное в этой системе, можно представить в ви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уясь этой формулой можно легко перевести число из системы счисления с  основани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десятичн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684360" y="3645000"/>
                <a:ext cx="73436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8"/>
              <p:cNvSpPr txBox="1"/>
              <p:nvPr/>
            </p:nvSpPr>
            <p:spPr>
              <a:xfrm>
                <a:off x="4067280" y="1773360"/>
                <a:ext cx="21841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227640" y="1773360"/>
                <a:ext cx="14400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AE62-1634-497B-8A3B-18ACFF261A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6,387 = 2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 6*10°+ 3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 8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+ 7*1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=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лужи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ание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счис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казатель степен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ятк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омер  позиции цифр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писи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умерация ведется слева на право, начиная с нул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перевода двоичного числа в десятичную 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1,1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1×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0×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1×2° + 1×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1×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4 + 1 + 1/2 + 1/4 = 5 + 0,5 + 0,25 = 5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E9F5-3BD7-4CF3-9941-44C92F3354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7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чисел в позиционной системе с основание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име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ифр. Обычно для этого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&lt;10 использую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вых арабских цифр, а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&gt;10 к десяти арабским цифрам добавляют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примеры алфавитов нескольких сист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5280" y="3716280"/>
          <a:ext cx="8424720" cy="2498760"/>
        </p:xfrm>
        <a:graphic>
          <a:graphicData uri="http://schemas.openxmlformats.org/drawingml/2006/table">
            <a:tbl>
              <a:tblPr/>
              <a:tblGrid>
                <a:gridCol w="2066760"/>
                <a:gridCol w="3911760"/>
                <a:gridCol w="244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системы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234567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56789ABCDEF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79BA-F9A0-464B-AFD0-EBB34A06A2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и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ие системы, к которой относится число, обозначается подстрочным индексом к этому чис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110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367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42DA-B357-454E-A42D-95A7967B68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дирование цел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ые числа могут представляться в компьютере со знаком или без зн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одирования целых чисел от 0 до 255 достаточно иметь 8 разрядов двоичного кода (8 би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тнадцать бит позволяют закодировать целые числа о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 до 65 535, а 24 бита — более 16,5 миллионов разных знач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E999-4132-42EF-8824-5D13496EBD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целых чисел без зн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ые числа без знака обычно  занимают  в  памяти  компьютера  од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а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4 байта 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однобайтовом  формате  принимают  значения  от  00000000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до   1111111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вухбайтовом формате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 00000000 00000000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  11111111 1111111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AD5B-D53D-498F-9588-61BC6272DB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целых чисел без зн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число 7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днобайтовом формат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число 7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вухбайтовом формат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число 65535 в двухбайтовом формат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427640" y="2997360"/>
            <a:ext cx="2520720" cy="48240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6"/>
          <p:cNvGrpSpPr/>
          <p:nvPr/>
        </p:nvGrpSpPr>
        <p:grpSpPr>
          <a:xfrm>
            <a:off x="7308360" y="2924280"/>
            <a:ext cx="2088000" cy="552960"/>
            <a:chOff x="7308360" y="2924280"/>
            <a:chExt cx="2088000" cy="552960"/>
          </a:xfrm>
        </p:grpSpPr>
        <p:sp>
          <p:nvSpPr>
            <p:cNvPr id="238" name="Text Box 7"/>
            <p:cNvSpPr/>
            <p:nvPr/>
          </p:nvSpPr>
          <p:spPr>
            <a:xfrm>
              <a:off x="7380360" y="292428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мера разрядов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7397640" y="313992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ты числ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 flipH="1">
              <a:off x="7308360" y="3068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"/>
            <p:cNvSpPr/>
            <p:nvPr/>
          </p:nvSpPr>
          <p:spPr>
            <a:xfrm flipH="1">
              <a:off x="7308360" y="328428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11" descr=""/>
          <p:cNvPicPr/>
          <p:nvPr/>
        </p:nvPicPr>
        <p:blipFill>
          <a:blip r:embed="rId2"/>
          <a:stretch/>
        </p:blipFill>
        <p:spPr>
          <a:xfrm>
            <a:off x="1979640" y="4221000"/>
            <a:ext cx="5033880" cy="52884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12"/>
          <p:cNvGrpSpPr/>
          <p:nvPr/>
        </p:nvGrpSpPr>
        <p:grpSpPr>
          <a:xfrm>
            <a:off x="7056000" y="4292640"/>
            <a:ext cx="2088000" cy="552960"/>
            <a:chOff x="7056000" y="4292640"/>
            <a:chExt cx="2088000" cy="552960"/>
          </a:xfrm>
        </p:grpSpPr>
        <p:sp>
          <p:nvSpPr>
            <p:cNvPr id="244" name="Text Box 13"/>
            <p:cNvSpPr/>
            <p:nvPr/>
          </p:nvSpPr>
          <p:spPr>
            <a:xfrm>
              <a:off x="7128000" y="429264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мера разрядов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7145280" y="450828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ты числ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 flipH="1">
              <a:off x="7056000" y="4437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6"/>
            <p:cNvSpPr/>
            <p:nvPr/>
          </p:nvSpPr>
          <p:spPr>
            <a:xfrm flipH="1">
              <a:off x="7056000" y="4652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7"/>
          <p:cNvGrpSpPr/>
          <p:nvPr/>
        </p:nvGrpSpPr>
        <p:grpSpPr>
          <a:xfrm>
            <a:off x="7056000" y="5589720"/>
            <a:ext cx="2088000" cy="552960"/>
            <a:chOff x="7056000" y="5589720"/>
            <a:chExt cx="2088000" cy="552960"/>
          </a:xfrm>
        </p:grpSpPr>
        <p:sp>
          <p:nvSpPr>
            <p:cNvPr id="249" name="Text Box 18"/>
            <p:cNvSpPr/>
            <p:nvPr/>
          </p:nvSpPr>
          <p:spPr>
            <a:xfrm>
              <a:off x="7128000" y="5589720"/>
              <a:ext cx="201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омера разрядов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9"/>
            <p:cNvSpPr/>
            <p:nvPr/>
          </p:nvSpPr>
          <p:spPr>
            <a:xfrm>
              <a:off x="7145280" y="580536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иты числ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 flipH="1">
              <a:off x="7056000" y="573408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 flipH="1">
              <a:off x="7056000" y="59497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Picture 22" descr=""/>
          <p:cNvPicPr/>
          <p:nvPr/>
        </p:nvPicPr>
        <p:blipFill>
          <a:blip r:embed="rId3"/>
          <a:stretch/>
        </p:blipFill>
        <p:spPr>
          <a:xfrm>
            <a:off x="2050920" y="5589720"/>
            <a:ext cx="5040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4818-CF16-4B6D-BDBB-1FA8DD32D3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ые числа со знаком так же обычно занимают в памяти компьютера один, два или четыре бай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левый (старший) разряд содержит информацию о знаке числа (ноль соответствует плюсу, единица - минус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особенности записи целых чисел со знаком на примере однобайтового формата, при котором для знака отводится один разряд, а для цифр абсолютной величины - семь разря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BA92-998B-4EB7-A69B-E24AAE8CF5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тик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включа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тносящиеся к обработке информации в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ычислительных маш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 и </a:t>
            </a:r>
            <a:r>
              <a:rPr b="0" i="1" lang="ru-RU" sz="2800" spc="-1" strike="noStrike">
                <a:solidFill>
                  <a:srgbClr val="0000e5"/>
                </a:solidFill>
                <a:latin typeface="Arial"/>
              </a:rPr>
              <a:t>вычислительных сет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трактные, вроде анализа алгоритмов,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рет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зыков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токолов передачи дан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ие две формы применяются особенно широко, так как позволяют упростить конструкцию арифметико-логического устройства компьютера путем замены разнообразных арифметических операций операцией с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A267-8CF6-4E0E-8A47-572F73FEC5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льные числа в прямом, коде изображаются двоичными цифрами с цифрой 0 в знаковом разря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900000" y="4437000"/>
            <a:ext cx="71708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313F-F64B-4B47-B113-393E6B99761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дирование целых чисел со зна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рицательные числа в прямом коде имеют следующее изображение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ямой код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 знаковый разряд помещается цифра 1, а в разряды цифровой части числа — двоичный код его абсолютной величин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760572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0A46-73EB-4DD7-B5E7-4C14FF625B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льные числа в прямом, обратном и дополнительном кодах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ображаются одинаков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ичными цифрами с цифрой 0 в знаковом разря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71704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8979-79CC-4FDC-96D8-07DEA5F468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дирование целых чисел со зна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рицательные числа в прямом коде имеют следующее изображение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ямой код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 знаковый разряд помещается цифра 1, а в разряды цифровой части числа — двоичный код его абсолютной величин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760572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учается инвертированием всех цифр двоичного кода абсолютной величины числа, включая разряд знака: нули заменяются единицами, а единицы — ну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828036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дирование целых чисел со зна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учается образованием обратного кода с последующим прибавлением единицы к его младшему разря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82818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рифметические действия над целыми числами в ЭВ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55564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ьшинстве компьютеров операция вычитания не используется. Вместо нее производится сложение обратных или дополнительных кодов уменьшаемого и вычит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ожение обратных к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 положительное, B отрицательное и по абсолютной величине больше, чем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549720" y="364500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 зап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Двоичные ко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93840" y="5589720"/>
            <a:ext cx="8588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 правильный результат в обратном код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в прямой код биты цифровой части результата инвертируются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000111 = -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4946400" cy="10368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8"/>
          <p:cNvSpPr/>
          <p:nvPr/>
        </p:nvSpPr>
        <p:spPr>
          <a:xfrm>
            <a:off x="5796000" y="450864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 числа -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796000" y="48690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 числа -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CF0B-F091-42AB-B1BF-B933E19301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йствительные числа в математике представляются конечными или бесконечными дробями, т.е. точность представления чисел не ограничена.  Однако в компьютерах числа хранятся ячейках памяти с ограниченным количеством разрядов. Следовательно, бесконечные или очень длинные числа усекаются до некоторой длины и в компьютерном представлении выступают как приближенные. (пример – иррациональное число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7AED-6E5C-49E1-99EB-E3556567979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"информатика"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слова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Informatiqu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образован из двух слов: информация и автомат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термин введен во Франции в середине 60-х лет XX ст.. Тогда в англоязычных странах вошел в употребление термин </a:t>
            </a: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"Computer Science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обозначения науки о преобразовании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эти термины являются синони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3944-6C13-4957-8F1C-3A556025DD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написании действительных чисел в программах вместо привычной запятой принято ставить точ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отображения действительных чисел, которые могут быть как очень маленькими, так и очень большими, используется форма записи чисел 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ющей точ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, десятичное число 1.25 в этой форме можно представить так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25*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 0.125*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0.0125*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57DC-C6EC-46A1-8B2D-1C1DF36E85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е число N в системе счисления с основанием q можно записать в вид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 = M*q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M — множитель, содержащий все цифры числа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нтис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 — целое число, называемо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ряд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ительное число записывается в память компьютера в вид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нтиссы и поря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81E5-A262-46A6-8576-95D96C63C0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00012 = 0.12*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M=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p=-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4,5 = 0.12345*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M=1234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p=4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9B3C-4CEB-4D95-A25D-AF315EF520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209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0BB6-FB3D-4C98-ADF8-1EAD512CC2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действитель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 порядка представляется с избытком, т.е. вместо истинного значения порядка хранится число, называемо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мещенным поряд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луч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мещенно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еобходимо к порядку прибавить смещение. Например, при использовании для хранения порядка восьми бит, (значений от –128 до +127) используется смещение 128. Тогда для представления порядка будут использоваться значения от 0 до +255, т.е. только неотрицатель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A31C-F82D-4104-A549-EA0A4DC3C2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5899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дирование текста. Представление символов в двоичном код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ым кодом наз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никальное беззнаковое целое двоичное число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ленное в соответствие некоторому симв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ставл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ксто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формации в компьютере чаще всего используется алфавит мощностью 256 сим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включает в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арабские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буквы латинского алфав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знаки препин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рифметичес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пециальные управляющие симв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буквы и знаки национального алфав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669E-19E6-4350-8661-D129AB5B60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символ из такого алфавита несет 8 бит информации, следовательно, занимает 1 байт памяти ЭВ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 символы такого алфавита пронумерованы о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0 до 25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му номеру соответствует 8-разрядный двоичный код о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00000000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111111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код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рядковым номером симво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A9DC-D48F-4CC7-919A-0824049990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ичное кодирование </a:t>
            </a:r>
            <a:r>
              <a:rPr b="0" i="1" lang="ru-RU" sz="2800" spc="-1" strike="noStrike">
                <a:solidFill>
                  <a:srgbClr val="9900cc"/>
                </a:solidFill>
                <a:latin typeface="Arial"/>
              </a:rPr>
              <a:t>символьных данных</a:t>
            </a: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ится заданием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одовых табли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ждому символу ставят в соответствие одно- или двухбайтовый к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имо этого,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одов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 в соответствие кодам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авиши на клавиатур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чертание символ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кране монит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A220-2DD2-4435-9131-633C4EC278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зных типов ЭВМ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перационных сист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пользуются различные таблицы кодиро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отличаются порядком размещения символов алфавита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м стандартом на персональных компьютерах является таблица кодировк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ASC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Standard Code of Information Interchang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анский стандартный код информационного обме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889A-D6DF-45C6-9A4C-B6E156CB31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ASC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работана институтом стандартизации США в 1981 г. Ее использовали, в частности, программные продукты, работающие под управлением операционной систем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4E77-CF92-4910-BF1D-1C533D8A0F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 информатик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наук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ля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паратное обеспеч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взаимодействия аппаратного и программн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взаимодействия человека с аппаратными и программными сред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7A7E-12C8-44CF-B736-C52A5366A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истем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C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лены две таблицы кодирования —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азова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9900cc"/>
                </a:solidFill>
                <a:latin typeface="Arial"/>
              </a:rPr>
              <a:t>расшир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блица закрепляет значения кодов с номе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0 до 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енна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носится к символам с номе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128 до 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FBF1-CE05-4934-9DE7-1085F054E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базовой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области размещаются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управляющие коды,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например, код клавиши  «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» 13 или 00001101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коды символов английского алфави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наков препинания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цифр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рифметических действий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екоторых вспомогательных символов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стальные 128 кодов, начиная со </a:t>
            </a:r>
            <a:r>
              <a:rPr b="0" lang="ru-RU" sz="3100" spc="-1" strike="noStrike">
                <a:solidFill>
                  <a:srgbClr val="9900cc"/>
                </a:solidFill>
                <a:latin typeface="Arial"/>
              </a:rPr>
              <a:t>128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двоичный код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0000000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) и кончая </a:t>
            </a:r>
            <a:r>
              <a:rPr b="0" lang="ru-RU" sz="3100" spc="-1" strike="noStrike">
                <a:solidFill>
                  <a:srgbClr val="9900cc"/>
                </a:solidFill>
                <a:latin typeface="Arial"/>
              </a:rPr>
              <a:t>255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111111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), используются для кодировки букв </a:t>
            </a:r>
            <a:r>
              <a:rPr b="0" i="1" lang="ru-RU" sz="3100" spc="-1" strike="noStrike">
                <a:solidFill>
                  <a:srgbClr val="c00000"/>
                </a:solidFill>
                <a:latin typeface="Arial"/>
              </a:rPr>
              <a:t>национальных алфавитов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научных символ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A12E-0017-48FF-A06A-BE267B668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робуем с помощью таблицы ASCII представить, как будут выглядеть слова в памяти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0110011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0110100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011011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0110010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гда бывает так, что текст, состоящий из букв русского алфавита, невозможно прочитать - на экране монитора видна какая-то "абракадабра". Это происходит оттого, что на компьютерах применяется разная кодировка символов русского языка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08DF-6DAC-4793-A404-043B661207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дирование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ние несколько лет с однобайтовыми кодами для символов появились проблемы: необходимость обеспечить языки с письменностью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иероглифами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ка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понский и китай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используемых знаков в этих языках даже по минимальным нормам во много раз превышает 25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распространенной кодировкой символов, использующей п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бай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имвол на сегодняшний день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nico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1646-715F-4585-98F1-961AACB393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ства взаимо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взаимодействия в информатике принято называть интерфейсом, а средства взаимодействия человека с аппаратными и программными средствами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фейсом пользовате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3C0A-1BBC-4860-8F65-0B9A6A2120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ставная часть информации, они представляют соб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регистрированные сигна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C8A7-F6E6-456B-9BDB-5939F766CC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направления информатики для </a:t>
            </a:r>
            <a:r>
              <a:rPr b="0" lang="ru-RU" sz="3600" spc="-1" strike="noStrike">
                <a:solidFill>
                  <a:srgbClr val="000072"/>
                </a:solidFill>
                <a:latin typeface="Arial"/>
              </a:rPr>
              <a:t>практического применения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рхитектура вычислительных сис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иемы и методы построения систе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интерфейсы вычислительных сист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программир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преобразование данн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щита 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0:08:01Z</dcterms:created>
  <dc:creator>TPLX</dc:creator>
  <dc:description/>
  <dc:language>en-US</dc:language>
  <cp:lastModifiedBy>Наталья</cp:lastModifiedBy>
  <dcterms:modified xsi:type="dcterms:W3CDTF">2020-10-27T10:28:48Z</dcterms:modified>
  <cp:revision>146</cp:revision>
  <dc:subject/>
  <dc:title>Слайд 1</dc:title>
</cp:coreProperties>
</file>