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CDF9-29F3-4502-8393-D9B24F4CB6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580-B787-48EB-B0AF-3FAAB7ABE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919C-8DEE-4C38-808A-BAA0BB00D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9406-9279-4759-BCDB-EC82E96D3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53E0-3F9C-4F2A-A226-7F7CA3346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41BB-E26E-4F1A-B33E-B72F47380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0D8E-D34A-423A-ABC9-0FFACD069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626D-6B0D-4E5A-92F7-A571081B1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F1A8-13B4-455A-B4A1-78B042703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8D96-6478-4EA4-9EA0-387412C1A0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71E7-9982-40D8-A498-1EBF4B2EB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B3E6-FAE7-42E2-8EF5-69D8A8823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ACC-52C3-4F7B-AB59-9D062E3DF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02A3-C9B0-4B9F-BECF-12B6E67C9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B980-8750-40C6-9BA2-33AA9493B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2573-BEEF-43F1-841E-FB8AA94119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A3FF-C236-44DE-BA88-D660D630C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D288-D7FE-4388-B4D3-0BCBD934E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5624-A503-48DF-946D-68FEC224F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832-21DE-404E-80FA-385E22A65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DE32-4D2F-40DA-9F4D-6F6AC67A8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36C7-1B1E-4800-9196-514D1D4D3F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13F0-F876-4B42-A9D3-CFC15F78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9BD5-199B-4FDE-A146-7403330F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CFF6-DE15-4C60-9E4A-61181B8F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0196-BFBB-41A1-810B-A6E14E01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A98B-1124-4767-95A1-5707FF1F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A1B9-0B70-4B81-A803-9B41A7A7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BC25-A821-4F68-9902-16346848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A2C-B648-4C3B-B448-DE3CB820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6768-05C0-4114-A4D1-10D0B802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9CC6-1F57-4615-9A81-A26020B3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7931-91BE-4058-A7A4-11E074E7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FE14-2713-4F5B-9687-AC1C1125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7DED-470B-4AB9-BB73-5965B8E8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E210-E7D8-4759-81D4-CE21A2F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7BC3-E66A-4780-A18B-4DC1CB7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147F-0023-4634-A634-E2B6FD50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1790-0129-43AC-A2F0-12F73DFC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C6CC-CDF8-4783-9BCD-300C9807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A248-7134-446D-809B-F3097C8A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DEE0-5B9A-47BE-9584-CD7FCA66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81D7-C51D-4AFF-8896-0498284B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DBF4-DB9F-4E54-9B09-1FC2E1CC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DC54-167B-406D-B106-482E0844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E1A6-A11F-477A-8FB5-967B812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6164-3DD3-4CED-BFDD-A1D45D163A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E1E7-C9CA-43FD-AB48-7AB0635A6C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hyperlink" Target="http://ru.wikipedia.org/wiki/&#1069;&#1085;&#1077;&#1088;&#1075;&#1086;&#1079;&#1072;&#1074;&#1080;&#1089;&#1080;&#1084;&#1072;&#1103;_&#1087;&#1072;&#1084;&#1103;&#1090;&#1100;" TargetMode="External"/><Relationship Id="rId3" Type="http://schemas.openxmlformats.org/officeDocument/2006/relationships/hyperlink" Target="http://ru.wikipedia.org/wiki/&#1050;&#1086;&#1084;&#1087;&#1100;&#1102;&#1090;&#1077;&#1088;&#1085;&#1072;&#1103;_&#1087;&#1072;&#1084;&#1103;&#1090;&#1100;" TargetMode="External"/><Relationship Id="rId4" Type="http://schemas.openxmlformats.org/officeDocument/2006/relationships/hyperlink" Target="http://ru.wikipedia.org/wiki/&#1055;&#1088;&#1086;&#1094;&#1077;&#1089;&#1089;&#1086;&#1088;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8741-E919-4B20-901A-D908BD007D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Внутренняя память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теринская пла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екция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6021360"/>
            <a:ext cx="29527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ГТ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федра М 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812000" y="6553080"/>
            <a:ext cx="133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2B8A-8FE7-4942-8C13-BA9A3BC778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Постоянная память 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 Постоянная память ROM (Read Only Memory - ПЗ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момент включения компьютера в его оперативной памяти отсутствуют любые данные, поскольку оперативная память не может сохранять данные при отключенном компьютер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процессору необходимы команды, в том числе и сразу после включения. Поэтому процессор обращается п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ециальному стартовому адрес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торый ему всегда известен, за своей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ервой команд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т адрес указывает на память, которую принято называть постоянной памятью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оянным запоминающим устройством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ПЗ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BCA8-CCAC-4C5D-866F-15691D327D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Постоянная память 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хема ПЗУ способна продолжительное время сохранять информацию, даже при отключенном компьюте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ят, что программы, которые находятся в ПЗУ, "зашиты" в ней - они записываются туда на этапе изготовления микросх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существую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программируемые ПЗ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ПЗ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ЗУ позволяют перепрограммировать их многокра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 программ, находящийся в ПЗУ образовыв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азовую систему ввода/вы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Basic Input Output Syst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значение этих программ состоит в том, чтобы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оверить состав и трудоспособ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и обеспечить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заимодействие с внешними устр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1EF-8BC4-4CCE-9080-24970A889B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Энергонезависимая память C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Для своей работы программы BIOS требуют всю информацию о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текущей конфигурации системы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о очевидной причине эту информацию нельзя сохранять ни в оперативной памяти, ни в постоянной. Специально для этих целей на материнской плате есть микросхема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энергонезависимой памяти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, которая называется </a:t>
            </a:r>
            <a:r>
              <a:rPr b="1" lang="ru-RU" sz="3300" spc="-1" strike="noStrike">
                <a:solidFill>
                  <a:srgbClr val="0000bc"/>
                </a:solidFill>
                <a:latin typeface="Arial"/>
              </a:rPr>
              <a:t>CMOS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F55-48F8-4C52-8F0A-18A73EA542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Энергонезависимая память C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92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ергонезависимая память </a:t>
            </a:r>
            <a:r>
              <a:rPr b="1" lang="ru-RU" sz="2800" spc="-1" strike="noStrike">
                <a:solidFill>
                  <a:srgbClr val="0000bc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оперативной памяти отличается тем, что ее содержимо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исчезает при отключен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можно заносить в </a:t>
            </a:r>
            <a:r>
              <a:rPr b="1" lang="ru-RU" sz="2800" spc="-1" strike="noStrike">
                <a:solidFill>
                  <a:srgbClr val="0000bc"/>
                </a:solidFill>
                <a:latin typeface="Arial"/>
              </a:rPr>
              <a:t>CMO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изменя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оответствии с тем, какое оборудование входит в состав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росхема памяти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оянно питается от небольшой батарейки, расположенной на материнской пла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C8F5-1DB7-48E0-B6FD-62DEC84077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Энергозависимая память C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13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 факт, что компьютер четко отслежив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у и врем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акже связан с тем, что эта информация постоянно хранится (и обновляется) в памяти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A28C-5119-47F4-8891-A26CCB948A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bc"/>
                </a:solidFill>
                <a:latin typeface="Arial"/>
              </a:rPr>
              <a:t>Материнская 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платой ПК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́нская пла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Mother Boar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тери́нская пла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это сложная многослойная печатная плата к которой подключаются остальные компоненты компьюте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ним электропитание и данные поступ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монтированным на пла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росхем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слот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которые вставляются остальные устройства компью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641-6F29-4483-BCEF-EC9A168285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bc"/>
                </a:solidFill>
                <a:latin typeface="Arial"/>
              </a:rPr>
              <a:t>Материнская пл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й расположе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пс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икропроцессорный комплект) -от англ. "chip set" - набор микросхем, спроектированных для совместной работы с целью выполнения каких-либо функ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17360" y="2060640"/>
            <a:ext cx="3795840" cy="410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File:MSI K7T266 motherboard.jpg"/>
          <p:cNvPicPr/>
          <p:nvPr/>
        </p:nvPicPr>
        <p:blipFill>
          <a:blip r:embed="rId2"/>
          <a:stretch/>
        </p:blipFill>
        <p:spPr>
          <a:xfrm>
            <a:off x="117360" y="1795320"/>
            <a:ext cx="4454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9EF2-4B70-4A35-8CD2-A096C6C05A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bc"/>
                </a:solidFill>
                <a:latin typeface="Arial"/>
              </a:rPr>
              <a:t>Материнская пл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система, которая передает данные между функциональными блоками компьютер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ногоразрядный канал передачи информации от одного устройства компьютера к другом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еративное запоминающее устро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ЗУ)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тоянное запоминающее устро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ЗУ)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ъ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подсоединения дополнительных устройств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979E-9A2E-4B9E-AB7E-367FF622D3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bc"/>
                </a:solidFill>
                <a:latin typeface="Arial"/>
              </a:rPr>
              <a:t>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атеринская 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633744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430E-2AE1-4160-92DE-4EC17C0BB6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bc"/>
                </a:solidFill>
                <a:latin typeface="Arial"/>
              </a:rPr>
              <a:t>Внутренние шины передачи информ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D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англ.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ntegrated Drive Electron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 параллельный интерфейс подключения накопителей (жёстких дисков и оптических приводов) к компьютеру. Позднее стал именоваться ATA, затем P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ядность шин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шина характеризуется шириной – числом параллельных проводников для передачи информ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E0F3-24B4-4A7E-8793-E89316A23C6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bc"/>
                </a:solidFill>
                <a:latin typeface="Arial"/>
              </a:rPr>
              <a:t>Внутренняя 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08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й память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ют все виды запоминающих устройств, расположенные на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материнской пла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им относ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перативная памя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тоянная памя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нергонезависимая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эш память 3-го уровн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нахо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D5D0-E662-4ED3-9B09-7B852CB747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bc"/>
                </a:solidFill>
                <a:latin typeface="Arial"/>
              </a:rPr>
              <a:t>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CI-X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ультиплексированная (адрес и данные передаются по одним и тем же линиям)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ает в себя все линии, которые обеспечивают работу общей ш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828E-84C8-402C-B762-B672A37BA0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bc"/>
                </a:solidFill>
                <a:latin typeface="Arial"/>
              </a:rPr>
              <a:t>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20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 широко используется шин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PCI Express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она была нацелена на использование только в качеств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ьной шин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иковая производительность шины PCI Express 3.0  д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 ГБит/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CI Express 4.0  до 32 ГБит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-фак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PCI Express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нила  шины других моделей в персональных компьюте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6477-B9F4-410F-A5B6-BB75D10A58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bc"/>
                </a:solidFill>
                <a:latin typeface="Arial"/>
              </a:rPr>
              <a:t>Ш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0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Universal Serial B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 универсальная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шина, предназначенная для подключения периферийных устройств. Шина USB представляет собой последовательный интерфейс передачи данных для среднескоростных и низкоскоростных периферийных устрой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ительность шины USB 3.0 повышает максимальную скорость передачи информации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бит/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A923-DA21-4B8F-96C1-09752DEF4F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Внутренняя 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и́вная памя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RA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анг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Random Access Memor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амять с произвольным доступом) —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энергозависи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асть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компьютерной памя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которой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рем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ранятся данные и команды, необходимые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роцессор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выполнения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ивное запоминающее устрой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З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техническое устройство, в котором установлена оперативная памят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F4F8-11D4-482C-85E2-497828202C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bc"/>
                </a:solidFill>
                <a:latin typeface="Arial"/>
              </a:rPr>
              <a:t>Внутренняя 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мять RAM - это массив кристаллических ячеек, способных сохранять данны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уется для оперативного обмена информацией   (командами и данными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жду </a:t>
            </a: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процессор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8000"/>
                </a:solidFill>
                <a:latin typeface="Arial"/>
              </a:rPr>
              <a:t>внешней памятью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600" spc="-1" strike="noStrike">
                <a:solidFill>
                  <a:srgbClr val="cc0099"/>
                </a:solidFill>
                <a:latin typeface="Arial"/>
              </a:rPr>
              <a:t>периферийными систе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 нее процессор получает программы и данные для обработки, в нее записываются полученные результат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"оперативная"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сходит оттого, что она работает очень быстро и процессору не нужно ждать при считывании данных из памяти или при запис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ные 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ЗУ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храняются  лишь временно при включенном компьютере, при выключении они исчезаю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7124-E805-4AF2-BA49-258FB86AB4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Оперативная память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физическому принципу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намическую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D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тическую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S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D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кономичный вид памяти. Ячейки динамической памяти можно представить в виде микроконденсаторов, способных накапливать электрический за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и DRAM: медленнее происходит запись и чтение данных, требует постоянной подзаря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стота реализации и низкая стои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ческа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чейки статической памяти состоят из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тригг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249-BC70-473A-958E-9B1F8FE85D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Оперативная память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0872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иггере сохраняется не заряд,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стоя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ключенный/выключенны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иму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и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S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значитель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е быстро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хнологически более сложный процесс изготовления, и соответственно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тои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хемы динамической памяти используются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микросхемы статической - дл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эш-памят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741760" y="5084640"/>
            <a:ext cx="17748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BB27-6416-4D02-9DED-A5EAF54C0F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971640" y="907920"/>
            <a:ext cx="633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-нанометровая технология Intel® обеспечивает меньшие размеры микросхем по сравнению с 22-нанометровой технологией. Каналы транзистора стали выше, тоньше и расположены ближе для повышения плотности и снижения емкостного сопротивления. Улучшенным транзисторам требуется меньше каналов для еще большего повышения плотности, а размер ячейки SRAM практически вдвое меньше по сравнению с ячейками, используемыми в 22-нанометровой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A501-9FBE-4298-A936-B2DADACDFA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Оперативная память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и оперативной памяти вставляют в соответствующие разъемы на материнской пла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характеристики моду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амя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досту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ая частота (до 800 МГц в  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одули  имеют объем - 512, 1024, 2048Мб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ремя доступ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казывает, сколько времени необходимо для обращения к ячейкам памяти, чем меньше, тем лучше. Измеряется в наносекунд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одуля – 3.5 -10 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165C-BF93-493E-9F6B-AF73B79C9C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bc"/>
                </a:solidFill>
                <a:latin typeface="Arial"/>
              </a:rPr>
              <a:t>Оперативная память 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0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дерами по объёму производства готовых модулей DIMM DRAM являю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sun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мериканская компания Kingston Technology. Samsung занимает 42.0% рынка производства микросх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и типа DIMM представляют собой длинные прямоугольные платы с микросхемами памяти на н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19280" y="4365720"/>
            <a:ext cx="5997600" cy="1541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867280" y="638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RAM 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0:08:01Z</dcterms:created>
  <dc:creator>TPLX</dc:creator>
  <dc:description/>
  <dc:language>en-US</dc:language>
  <cp:lastModifiedBy>User</cp:lastModifiedBy>
  <dcterms:modified xsi:type="dcterms:W3CDTF">2021-12-14T05:57:42Z</dcterms:modified>
  <cp:revision>950</cp:revision>
  <dc:subject/>
  <dc:title>Слайд 1</dc:title>
</cp:coreProperties>
</file>