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C2E3-F010-4C4A-8511-A6DA9900EE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A6B8-95A2-45A9-A9CD-0168F4315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E3D7-A1DB-4CEA-AB9D-308476EFE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5B87-58D4-4386-AB70-9A2DFC24B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8711-09E4-4283-ACC8-D7EA9D032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E9F9-DC1B-4AA5-A939-E6CFFB139F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AB87-1E41-4C55-AC08-3C8D73F6F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2265-6335-44B9-AB2A-6F009412F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C597-98DF-44AB-A47C-22916BE13C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44B8-A150-41A3-B72B-0AADB666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F552-4102-4BDE-AA57-450DA9FD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A196-DE3E-462B-AA50-A212DD56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FDDC-C959-4030-BFFF-86213F24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A6F6-1EBE-4CAD-A1FE-5840CAC4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1564-2695-4CB7-8F63-90004AAC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EFB5-BD92-436C-9FFA-6EF0278F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6ACF-8E8A-4A2E-AEA6-49155FA2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6032-AF8A-4448-AC5B-C26C04C9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9170-CE0F-4024-94C7-565D45D0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A336-B51C-4759-A975-0C073D42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3785-C297-4C6A-B649-CB24A59A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F271-13E8-4B5C-93A0-CD6EC28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FC9B-F42A-4A46-BA25-AACD5C9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19ED-7EC6-480D-B087-1203FA2E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0C49-5E0D-4E18-BE71-DC5AE330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4B57-7645-41E2-A81B-A230E3BE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33368-D08B-4EB0-9738-209FF554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1DCB-AAA3-4D8C-BD96-9E84F275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1CDA-C6DB-45DE-95D5-E55901A4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2839-94DF-4D0A-9EA3-6A60F627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4E8E-F882-4378-A486-C986DE4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7967-9C74-49A6-88ED-C7BF700A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10EF-DBF2-4590-B1AF-A09E3940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32BF-548B-45AD-8655-A895CAB5F2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0978-6308-4121-A9DB-A34CD68207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абличный процессор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S Exc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екция 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6021360"/>
            <a:ext cx="2952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ГТ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а М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67640" y="6445080"/>
            <a:ext cx="13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5-20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Создание табл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2844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вод данных в ячейку и в диапаз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любой ячей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содержаться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текстовая строк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число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формула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нного определяется автоматически при вводе. Если ввод начинается со знака равенства, то процессором это понимается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у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Редактирование содержимого ячейки можно произвести двойным щелчком по ячей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01B-E976-48B3-A49D-55B5AF8FB3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Форматирование ячее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ировани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установ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ы дан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метры шрифтов и выравни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ницы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тируемые ячейки или диапазон должны бы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дел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тем мен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АТ – ЯЧЕ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диалоговое окно «Формат ячеек» пане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меющее шесть вкладок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ИСЛО, ВЫРАВНИВАНИЕ, ШРИФТ, ГРАНИЦА, ВИД, ЗАЩ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де устанавливаются необходимые пара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B85C-D2DD-4734-8464-3BD377F28D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Форматирование ячее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8F3C-720A-41D7-B61F-FC2ECED14E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09800" y="1143000"/>
            <a:ext cx="7124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13840" y="428400"/>
            <a:ext cx="86439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кл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установить формат ячейки ка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словой, текстовый, да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расположены в поле «Числовые форматы» вкл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словые дан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огут содержать алфавитных или специальных символов, поскольку с ними производятся математические операции. Единственными исключениями являются десятичная точка(запятая) и знак числа, стоящий перед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6B6D-5EA9-47F6-97BF-34E4D08127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Арифметические операции.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числениях с помощью формул соблюд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ый в математик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полнения арифметических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ифметических формула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следующие операторы арифметических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возведение в степ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      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      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     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     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 формулы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А1+ А2*В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FA73-7E19-488C-9D33-6F0AC4C67D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Формул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071360"/>
            <a:ext cx="91440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вод форму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вод формулы начинается со знака равенства, сопровождается появлением формулы в ячейке и дублировании набора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 строке форму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ершается нажатием клавиш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 этого в ячейке появляется результат вычисления, а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аму  формулу теперь можно увидеть в строке форму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если активизировать ячей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0445-8ABB-414B-A33F-261F044481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ем пример вычисления арифметических и логических формул по следующим дан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00240" y="1857240"/>
          <a:ext cx="3186360" cy="1482840"/>
        </p:xfrm>
        <a:graphic>
          <a:graphicData uri="http://schemas.openxmlformats.org/drawingml/2006/table">
            <a:tbl>
              <a:tblPr/>
              <a:tblGrid>
                <a:gridCol w="614520"/>
                <a:gridCol w="857160"/>
                <a:gridCol w="928800"/>
                <a:gridCol w="78588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31B7-5AA7-4592-BB2E-BF152E46A6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4076640"/>
          <a:ext cx="8643960" cy="1795680"/>
        </p:xfrm>
        <a:graphic>
          <a:graphicData uri="http://schemas.openxmlformats.org/drawingml/2006/table">
            <a:tbl>
              <a:tblPr/>
              <a:tblGrid>
                <a:gridCol w="2143080"/>
                <a:gridCol w="1357200"/>
                <a:gridCol w="51436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А1+В1*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имое ячейки В1 умножается на 3, и результат складывается с содержимым ячейки А1.(Умножение выполняется первым)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Блок ячеек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 яче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диапазон ячее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меющий свой уникальный адре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ом может быть: строка или часть строки, столбец или часть столбца, а также прямоугольник, состоящий из нескольких строк и столбцов или их част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блока яче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ется указанием ссылок первой и последней его ячеек, между которыми, например, ставится разделительный символ – двоеточ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: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две точки подря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..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адрес блока ячеек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1:C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7053-099A-42B8-A935-AFF5EA5E0E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9280" y="404280"/>
            <a:ext cx="8715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72"/>
                </a:solidFill>
                <a:latin typeface="Arial"/>
              </a:rPr>
              <a:t>Указание блока яче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используемых ячеек может быть указан двумя путями : либ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посредственным набор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лавиатуры начального и конечного адресов ячеек, формирующих диапазон, либ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деление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ующей части таблицы при помощи клавиш управления курсором. Удобнее задавать диапазон выделением яче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DF2A-6CD3-4C69-890E-8B76D063F3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79280" y="404280"/>
            <a:ext cx="8715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2"/>
                </a:solidFill>
                <a:latin typeface="Arial"/>
              </a:rPr>
              <a:t>Назначение имени ячейке или диапазону яче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может быть присвоено отдельной ячейке или диапазону яче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здания имени необходимо воспользоваться одним из трех спосо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Спос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ыделить диапазон ячеек, которому должно быть присвоено и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кладк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\􀃆 групп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енные име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􀃆\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воить 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 появившемся диалоговом окн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здание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вести имя (или согласитьс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ны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жать на кноп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4D20-32B6-4AD3-AEED-DE9E8EC894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9619-A80B-494D-9A95-AB69DAB6B6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26564" t="33578" r="27941" b="20468"/>
          <a:stretch/>
        </p:blipFill>
        <p:spPr>
          <a:xfrm>
            <a:off x="0" y="1214280"/>
            <a:ext cx="6672240" cy="50547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7"/>
          <p:cNvSpPr/>
          <p:nvPr/>
        </p:nvSpPr>
        <p:spPr>
          <a:xfrm>
            <a:off x="7429680" y="41432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1"/>
          <p:cNvCxnSpPr/>
          <p:nvPr/>
        </p:nvCxnSpPr>
        <p:spPr>
          <a:xfrm flipH="1" flipV="1">
            <a:off x="5857560" y="4357440"/>
            <a:ext cx="1572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Прямая со стрелкой 13"/>
          <p:cNvCxnSpPr/>
          <p:nvPr/>
        </p:nvCxnSpPr>
        <p:spPr>
          <a:xfrm flipV="1">
            <a:off x="1784520" y="5715720"/>
            <a:ext cx="216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15"/>
          <p:cNvCxnSpPr/>
          <p:nvPr/>
        </p:nvCxnSpPr>
        <p:spPr>
          <a:xfrm flipH="1" flipV="1">
            <a:off x="2928600" y="4928400"/>
            <a:ext cx="4215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19"/>
          <p:cNvCxnSpPr/>
          <p:nvPr/>
        </p:nvCxnSpPr>
        <p:spPr>
          <a:xfrm flipH="1" flipV="1">
            <a:off x="5142960" y="5500440"/>
            <a:ext cx="185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21"/>
          <p:cNvCxnSpPr/>
          <p:nvPr/>
        </p:nvCxnSpPr>
        <p:spPr>
          <a:xfrm flipH="1" flipV="1">
            <a:off x="5357160" y="3428640"/>
            <a:ext cx="17866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23"/>
          <p:cNvCxnSpPr/>
          <p:nvPr/>
        </p:nvCxnSpPr>
        <p:spPr>
          <a:xfrm flipH="1" flipV="1">
            <a:off x="6285960" y="2642400"/>
            <a:ext cx="1572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25"/>
          <p:cNvCxnSpPr/>
          <p:nvPr/>
        </p:nvCxnSpPr>
        <p:spPr>
          <a:xfrm flipH="1" flipV="1">
            <a:off x="6143040" y="1642680"/>
            <a:ext cx="1143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Прямоугольник 26"/>
          <p:cNvSpPr/>
          <p:nvPr/>
        </p:nvSpPr>
        <p:spPr>
          <a:xfrm>
            <a:off x="6715080" y="46432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чейка с адресом С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8"/>
          <p:cNvSpPr/>
          <p:nvPr/>
        </p:nvSpPr>
        <p:spPr>
          <a:xfrm>
            <a:off x="6929280" y="5286240"/>
            <a:ext cx="16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ячеек с адресо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9"/>
          <p:cNvSpPr/>
          <p:nvPr/>
        </p:nvSpPr>
        <p:spPr>
          <a:xfrm>
            <a:off x="714240" y="64882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лбе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1"/>
          <p:cNvSpPr/>
          <p:nvPr/>
        </p:nvSpPr>
        <p:spPr>
          <a:xfrm>
            <a:off x="7000920" y="32148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ка ввода формул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2"/>
          <p:cNvSpPr/>
          <p:nvPr/>
        </p:nvSpPr>
        <p:spPr>
          <a:xfrm>
            <a:off x="6929280" y="235728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ель инструмент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4"/>
          <p:cNvSpPr/>
          <p:nvPr/>
        </p:nvSpPr>
        <p:spPr>
          <a:xfrm>
            <a:off x="6643800" y="13572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ы главного 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Меню интерфейса 20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9280" y="404640"/>
            <a:ext cx="8715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72"/>
                </a:solidFill>
                <a:latin typeface="Arial"/>
              </a:rPr>
              <a:t>Использование заданного имени яче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и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, хранятся в той книге, где 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созданы. Область их действия — вся рабочая книга. Это означает, что 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о на всех рабочих листах данной рабочей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ячеек и диапазонов можно использовать в качестве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сыл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эти 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ни при созд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ы выполните следующие ша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ыделите ячейку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ведите знак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чните ввод формулы (фун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жм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3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􀃆 в пол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авка имен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л. окна выберите и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3F4B-4B29-4184-8599-D4D464A919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53B8-8D58-478A-B451-1BA23D0C15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29F7-5596-43BD-9DDC-6183E322AF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Работа с функция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ункция представляет собой программу с уникальным име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должен задать конкретное значения аргументов функции,  в скобках после ее 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могут имеют один или несколько арг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 (так же, как и число) можно считать частным случаем форму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зволяет использовать встроенные математические, логические, статистические фун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честв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ов функ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ступают числовые значения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дреса яче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ся функция, как правило, с помощью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СТЕРА ФУНК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н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ли кнопк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ƒ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9738-62A8-4601-94D6-31A304CB61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Работа с функция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овое окно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тера Функ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имеет два ш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шаг: выбирает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 функ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ле «Категория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сам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писке «Функци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й шаг уточняет аргу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A32C-483A-45C5-AE1D-B60DC69D1B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AAB8-0937-45F5-A9BB-7CAB42A2C0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Работа с функциям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функции имеют следующий формат запи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 функ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еречень аргументов в круглых скобках, разделенных символ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наиболее часто встречающихся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06AC-F20C-470B-9479-837B47A967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2"/>
                </a:solidFill>
                <a:latin typeface="Arial"/>
              </a:rPr>
              <a:t>Примеры наиболее часто встречающихся функц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исок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суммирует аргументы в Списке. Список может состоять из адресов ячеек и блоков, а также числовых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(B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(A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 (Список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о же, что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(B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М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77AB-66EE-42D9-BECF-A0AC6238A8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2"/>
                </a:solidFill>
                <a:latin typeface="Arial"/>
              </a:rPr>
              <a:t>Примеры наиболее часто встречающихся функц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словие; Истинно; Ложно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логическая функция, проверяющая на истинность заданное логическо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словие выполняется, то результатом функции является значение аргумента «Истинн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словие не выполняется, то результатом функции становится значение аргумента «Лож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(B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н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4/B4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 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4/B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если ячейка В4 содерж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функция возвращает текстовое сообщ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 н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же это условие не выполняется (т.е. содержимое ячейки В4 не равно 0), функции присваивается знач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4/B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3E8F-C252-4264-B168-39120C314F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Arial"/>
              </a:rPr>
              <a:t>Относительная и абсолютная адресац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1500120"/>
            <a:ext cx="82184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лектронной таблице при написании формул используются понят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сительной и абсолютной ссы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бсолютная ссыл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не изменяющийся при копировании и перемещении формулы адрес ячейки, содержащий исходное данное (операн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казания абсолютной адресации вводится симв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зличают два типа абсолютной ссылки: полная и частич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516A-FF20-40F3-B253-B538B9815C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9928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AABB-D8D7-4388-A46E-F638B2701E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ная абсолютная ссыл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азывается, если при копировании или перемещении адрес клетки, содержащий исходное данное, не меняется. Для этого симво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первом случаем ставится перед именем столбца и номером стро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B$5; $D$1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олные абсолютные ссыл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астичная абсолютная ссыл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азывает, если при копировании и перемещении </a:t>
            </a:r>
            <a:r>
              <a:rPr b="1" lang="ru-RU" sz="2200" spc="-1" strike="noStrike" u="sng">
                <a:solidFill>
                  <a:srgbClr val="000072"/>
                </a:solidFill>
                <a:uFillTx/>
                <a:latin typeface="Arial"/>
              </a:rPr>
              <a:t>не меняетс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мер строки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столбц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этом символ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тавится перед номером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 или перед именем столб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$5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ичная абсолютная ссылка, не меняется номер стро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B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частичная абсолютная ссылка, не меняется наименование столб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носительная ссылк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это изменяющийся при копировании и перемещении формулы адрес ячейки. Изменение адреса происходит п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илу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тносительной ори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етки с исходной формулой и клеток с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перандам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24E7-06E0-4C84-B9E4-FA173616DB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Создание Абсолютных сс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79280" y="1052280"/>
            <a:ext cx="8507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е ячейку с формулой.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е форму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е ссылку, которую необходимо изменить (например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жимай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не получите желаемой ссы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нажат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ает тип ссылки в следующей последова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$H$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абсолютный столбец и абсолютная ст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$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относительный столбец и абсолютная ст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$H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абсолютный столбец и относительная ст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1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относительный столбец и относительная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жми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S Excel запишет формулу 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солютными ссыл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B396-7533-45CA-A436-9C3D441EAC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Arial"/>
              </a:rPr>
              <a:t>Правило относительной ориентации клет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49976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а, где в качестве операндов используются ссылки ячеек, воспринимается системой как шаблон, а адреса ячеек в таком шаблоне – как ориентированные дан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сительно ячейки с форму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4844-D04A-435D-969E-7A3F61B0BAF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00120" y="3643200"/>
          <a:ext cx="6096240" cy="2225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А1+В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+B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23" name="Соединительная линия уступом 9"/>
          <p:cNvCxnSpPr/>
          <p:nvPr/>
        </p:nvCxnSpPr>
        <p:spPr>
          <a:xfrm>
            <a:off x="4429080" y="4214880"/>
            <a:ext cx="1858320" cy="4291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24" name="Прямая соединительная линия 15"/>
          <p:cNvSpPr/>
          <p:nvPr/>
        </p:nvSpPr>
        <p:spPr>
          <a:xfrm>
            <a:off x="5643720" y="5286240"/>
            <a:ext cx="128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17"/>
          <p:cNvCxnSpPr/>
          <p:nvPr/>
        </p:nvCxnSpPr>
        <p:spPr>
          <a:xfrm flipV="1">
            <a:off x="6928200" y="4645080"/>
            <a:ext cx="25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5F97-75C5-4BBF-8C36-8D3A9B367B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Объект 4"/>
          <p:cNvGraphicFramePr/>
          <p:nvPr/>
        </p:nvGraphicFramePr>
        <p:xfrm>
          <a:off x="1258920" y="1989000"/>
          <a:ext cx="66135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6613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856800"/>
            <a:ext cx="840096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пируемую формулу назовем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формулой-оригиналом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пированную формул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формулой-копие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опировании формул действу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 относительной ориентации клето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после окончания копирования относительное расположение клеток остается таким же, как в формуле-оригин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опировании формул происходи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томатическое изменение относительных ссыл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9C01-71F7-437E-AE2C-1FF6F82FD6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17AD-06AF-45DD-A669-D08F1E0921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57120" y="1071720"/>
          <a:ext cx="2857680" cy="1482480"/>
        </p:xfrm>
        <a:graphic>
          <a:graphicData uri="http://schemas.openxmlformats.org/drawingml/2006/table">
            <a:tbl>
              <a:tblPr/>
              <a:tblGrid>
                <a:gridCol w="317520"/>
                <a:gridCol w="1468440"/>
                <a:gridCol w="536760"/>
                <a:gridCol w="534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С1+В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57120" y="2857680"/>
          <a:ext cx="3000600" cy="1482480"/>
        </p:xfrm>
        <a:graphic>
          <a:graphicData uri="http://schemas.openxmlformats.org/drawingml/2006/table">
            <a:tbl>
              <a:tblPr/>
              <a:tblGrid>
                <a:gridCol w="333360"/>
                <a:gridCol w="1541520"/>
                <a:gridCol w="563760"/>
                <a:gridCol w="56196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714840" y="1143000"/>
          <a:ext cx="5072040" cy="1514520"/>
        </p:xfrm>
        <a:graphic>
          <a:graphicData uri="http://schemas.openxmlformats.org/drawingml/2006/table">
            <a:tbl>
              <a:tblPr/>
              <a:tblGrid>
                <a:gridCol w="447480"/>
                <a:gridCol w="1119240"/>
                <a:gridCol w="1192320"/>
                <a:gridCol w="1143000"/>
                <a:gridCol w="649080"/>
                <a:gridCol w="52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416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С1+В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1+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1+D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714840" y="2928960"/>
          <a:ext cx="5143320" cy="1482840"/>
        </p:xfrm>
        <a:graphic>
          <a:graphicData uri="http://schemas.openxmlformats.org/drawingml/2006/table">
            <a:tbl>
              <a:tblPr/>
              <a:tblGrid>
                <a:gridCol w="401400"/>
                <a:gridCol w="1598760"/>
                <a:gridCol w="1571760"/>
                <a:gridCol w="1571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$C$1+$B$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$C$1+$B$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f5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32148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д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4214880" y="285840"/>
            <a:ext cx="43578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2"/>
                </a:solidFill>
                <a:latin typeface="Arial"/>
              </a:rPr>
              <a:t>после коп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AE17-FC14-45D5-866E-A6FBC8182E3B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2B33-A62E-4DB1-8D7C-AAC9660C9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059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методы оптимизации ввод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3240" y="836640"/>
            <a:ext cx="89917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323640">
              <a:lnSpc>
                <a:spcPct val="100000"/>
              </a:lnSpc>
              <a:buClr>
                <a:srgbClr val="9999cc"/>
              </a:buClr>
              <a:buSzPct val="75000"/>
              <a:buFont typeface="Comic Sans MS"/>
              <a:buAutoNum type="romanUcPeriod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Автозаполнени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обеспечивает</a:t>
            </a:r>
            <a:r>
              <a:rPr b="1" lang="ru-RU" sz="1800" spc="-1" strike="noStrike">
                <a:solidFill>
                  <a:srgbClr val="9999c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пирование данных  в соседние ячей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использованием механизма ввода </a:t>
            </a:r>
            <a:r>
              <a:rPr b="1" lang="ru-RU" sz="1800" spc="-1" strike="noStrike">
                <a:solidFill>
                  <a:srgbClr val="008000"/>
                </a:solidFill>
                <a:latin typeface="Comic Sans MS"/>
              </a:rPr>
              <a:t>«рядов данных» 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данных, отличающихся друг от друга на фиксированный шаг. Ряды данных могут образовывать числа, даты, период времени, пользовательские списки (названия районов города,  фамилии студентов групп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хнология автозапол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2364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008000"/>
              </a:buClr>
              <a:buSzPct val="75000"/>
              <a:buFont typeface="Comic Sans MS"/>
              <a:buAutoNum type="arabicPeriod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8000"/>
                </a:solidFill>
                <a:uFillTx/>
                <a:latin typeface="Comic Sans MS"/>
              </a:rPr>
              <a:t>Протяг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236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делить две или более соседних яче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2364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местить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на маркер заполнения (черный квадрат в правом нижнем угл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23640">
              <a:lnSpc>
                <a:spcPct val="115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Comic Sans MS"/>
              <a:buAutoNum type="alphaLcParenR"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римет вид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, протянуть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нужному диапазону, удерживая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К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4" descr=""/>
          <p:cNvPicPr/>
          <p:nvPr/>
        </p:nvPicPr>
        <p:blipFill>
          <a:blip r:embed="rId1"/>
          <a:srcRect l="0" t="38471" r="39906" b="33333"/>
          <a:stretch/>
        </p:blipFill>
        <p:spPr>
          <a:xfrm>
            <a:off x="179280" y="4797360"/>
            <a:ext cx="2895840" cy="1371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5" descr=""/>
          <p:cNvPicPr/>
          <p:nvPr/>
        </p:nvPicPr>
        <p:blipFill>
          <a:blip r:embed="rId2"/>
          <a:srcRect l="0" t="37137" r="33183" b="32859"/>
          <a:stretch/>
        </p:blipFill>
        <p:spPr>
          <a:xfrm>
            <a:off x="4665600" y="4797360"/>
            <a:ext cx="365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c3c77"/>
                </a:solidFill>
                <a:latin typeface="Arial"/>
              </a:rPr>
              <a:t>Интеллектуальные надстройки </a:t>
            </a:r>
            <a:r>
              <a:rPr b="0" lang="en-US" sz="3600" spc="-1" strike="noStrike">
                <a:solidFill>
                  <a:srgbClr val="3c3c77"/>
                </a:solidFill>
                <a:latin typeface="Arial"/>
              </a:rPr>
              <a:t>MS Excel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Надстрой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вспомогательная программа, служащая для добавления в Microsoft Office специальных команд или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надстройка «Анализ данных» предоставляет в распоряжение пользователя набор инструментов д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лезных при проведении сложного статистического или экономического  анал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шения экономических задач служат  надстройки  MS Exc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Поиск решения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Анализ данных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Подбор параметр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F4A5-86B9-4FBB-88C3-9BB5D663F2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c3c77"/>
                </a:solidFill>
                <a:latin typeface="Arial"/>
              </a:rPr>
              <a:t>Интеллектуальные надстройки </a:t>
            </a:r>
            <a:r>
              <a:rPr b="0" lang="en-US" sz="3600" spc="-1" strike="noStrike">
                <a:solidFill>
                  <a:srgbClr val="3c3c77"/>
                </a:solidFill>
                <a:latin typeface="Arial"/>
              </a:rPr>
              <a:t>MS Excel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стройка Microsoft Excel "Поиск решения" Применяется при решении задач оптимизации. Процедура поиска решения позволяет наход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альное значение форму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ейся в ячейке, которую называю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ел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умолчанию в Excel надстройк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 ре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юч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активизировать ее в Excel, щелкните знач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опка Microsoft Offic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ы 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выберите категори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дстрой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л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ерит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стройки Exce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нажмите кноп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й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л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ступные надстрой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е флажок рядом с пункт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иск реш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жмите кнопк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F4B7-A8D9-4D5D-8AB9-EF28F06821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578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3c77"/>
                </a:solidFill>
                <a:latin typeface="Arial"/>
              </a:rPr>
              <a:t>Интеллектуальные надстройки </a:t>
            </a:r>
            <a:r>
              <a:rPr b="0" lang="en-US" sz="3200" spc="-1" strike="noStrike">
                <a:solidFill>
                  <a:srgbClr val="3c3c77"/>
                </a:solidFill>
                <a:latin typeface="Arial"/>
              </a:rPr>
              <a:t>MS Excel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этого знач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иск реш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тся во вкладке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E5A0-0D28-4922-A844-8179C18DC0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52FE-2D24-4D2F-8563-3FE835846A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Документ 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MS </a:t>
            </a:r>
            <a:r>
              <a:rPr b="1" lang="en-US" sz="3800" spc="-1" strike="noStrike">
                <a:solidFill>
                  <a:srgbClr val="00007d"/>
                </a:solidFill>
                <a:latin typeface="Arial"/>
              </a:rPr>
              <a:t>Exc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4247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кумент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чая кни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файл с произвольным именем и расширением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ls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бочая книга состоит из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чих лист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количество которых ограничено объемом доступной оперативной памяти, каждый имеет свое имя). Один из рабочих листов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ктив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е. в настоящий момент с ним работает пользователь. Рабочий лист представляет собой таблицу, в которой может содержаться до 1048576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о 256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троки нумеруются числами, столбцы – латинскими букв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, C, …, Y, Z, AA, AB, AC, …, AZ, BA, …,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оздание основной диа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рамма может размещаться на листе, содержащем исходные данные, либо на отдельном листе. При этом, в случае размещения диаграммы на существующем листе, с ней можно работать как с картин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72"/>
                </a:solidFill>
                <a:latin typeface="Arial"/>
              </a:rPr>
              <a:t>Порядок построения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ыделите диапазон ячеек, на основании которого вы будете строить диа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 вкладк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упп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на нужный вам тип диаграммы (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Гистограм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Граф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ругов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д.) и выберите конкретный вид вашей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8E51-18BF-4FCD-8BA1-71119C172D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Использование графи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13840" y="928800"/>
            <a:ext cx="892980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тся первоначальный вариант диа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2781-4A71-4477-8994-762ABCB6C1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-6480" y="1700280"/>
            <a:ext cx="8826480" cy="3657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-6480" y="4076640"/>
            <a:ext cx="8826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Создание диаграм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оздания диаграммы автоматически появляется групп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таблицами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адк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ктор, Макет, Форм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вкладки содержат инструментальные средства, позволяющие изменять характеристики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3EC-8DD3-4499-AD38-A54CAAB12E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5840" y="308124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Создание диаграм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йдите на вкладк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упп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пис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ие диаграм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берите вариант расположения наз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явившемся объекте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пис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вание диаграммы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ите название своей диа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511F-A3AE-42E0-9FAD-D5A694EF95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Создание диаграм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бавления названий осей нажмите на вклад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я ос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берите варианты названий горизонтальной и вертикальной осей. В появившихся объектах (надпис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е оси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названия осей своей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бавления подписей данных нажмите на вклад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писи дан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берите место расположения подписей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орматирования и изменения </a:t>
            </a:r>
            <a:r>
              <a:rPr b="0" lang="ru-RU" sz="2400" spc="-1" strike="noStrike">
                <a:solidFill>
                  <a:srgbClr val="00005e"/>
                </a:solidFill>
                <a:latin typeface="Arial"/>
              </a:rPr>
              <a:t>разметки ос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етки диаграммы воспользуйтесь кнопка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т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типы диаграмм доступны на вклад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структ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кноп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ить тип диа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8D3C-D973-4FD7-B34A-ED6E8A5877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гновенный анали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ая функция экспресс-анализа позволяет в два счета преобразовать данные в диаграмму или 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можете с легкостью увидеть, как будут выглядеть данные, если к ним применить условное форматирование, спарклайны или диаграммы, а затем выбрать нужный вариант одним щелчком мы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CEA2-76A1-4E5C-9330-8C6409723C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выделите блок с данными, после чего в правом нижнем углу выделенной области появится небольшой значок быстрого анализа. Щелкнув по нему, вы увидите несколько кнопок, с помощью которых можно просмотреть различные варианты представления данных в виде наиболее подходящих типов графиков, диаграмм, гистограмм и спарклай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ркла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микрографик в одной ячейке. Строится в два клика (Вставка/Спарклайны/Графи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EFAC-A845-4A92-A113-3A2833BE10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940-CD2A-436F-AB06-ADB3E11412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Объект 4" descr="http://www.compbegin.ru/data/image/excel2013_5.png"/>
          <p:cNvPicPr/>
          <p:nvPr/>
        </p:nvPicPr>
        <p:blipFill>
          <a:blip r:embed="rId1"/>
          <a:stretch/>
        </p:blipFill>
        <p:spPr>
          <a:xfrm>
            <a:off x="457200" y="148428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1D97-C2C8-4F15-AF8A-E8CB3BCDD3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прощения работы с однотипными данными, в Excel расширили функциональные возможности быстрого заполнения табл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работы, программа постоянно анализирует вводимую вами информацию и пытается найти определенные закономерности. Если таковые будут найдены, то приложение сразу же предложит автоматически заполнить оставшиеся необходимые ячейки и завершить в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49D9-B79B-4990-B192-69EBE44AC2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Ячей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чей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 пересечении столбцов и строк находя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чей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ая ячейка имеет адрес, состоящий из указаний столбца и строки, на пересечении которых она находится, например А1, В5, АВ234. Адреса ячеек используются при обращении к их содержимому. Одна из ячеек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кт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а выделяется черной рамкой, в правом нижнем углу которой находи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ркер заполн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ерный квадратик). Ввод данных производится в активную ячей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FABB-F626-4A73-B8D4-A03FBBE5C6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Прямая со стрелкой 5"/>
          <p:cNvCxnSpPr/>
          <p:nvPr/>
        </p:nvCxnSpPr>
        <p:spPr>
          <a:xfrm flipH="1" flipV="1">
            <a:off x="785520" y="564336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7"/>
          <p:cNvCxnSpPr/>
          <p:nvPr/>
        </p:nvCxnSpPr>
        <p:spPr>
          <a:xfrm flipV="1">
            <a:off x="1355760" y="5501880"/>
            <a:ext cx="21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13"/>
          <p:cNvCxnSpPr/>
          <p:nvPr/>
        </p:nvCxnSpPr>
        <p:spPr>
          <a:xfrm>
            <a:off x="1571760" y="5643720"/>
            <a:ext cx="357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Прямая со стрелкой 15"/>
          <p:cNvCxnSpPr/>
          <p:nvPr/>
        </p:nvCxnSpPr>
        <p:spPr>
          <a:xfrm>
            <a:off x="2208240" y="5486040"/>
            <a:ext cx="720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главных нововведений в новом офисном пакета стала тесная интеграция 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чным сервисом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SkyDrive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использования которого требуется учетная запись Microsoft. Не смотря на то что, вы можете по-прежнему сохранять документы на жестком диске компьютера, хранилищу SkyDrive реально отдается приоритет. Так, именно этот сервис изначально является мест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я файлов по умолч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36EB-AC71-497D-B132-91AC55966B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Отличительные особенности MS EXСEL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ные требования Microsoft Excel 2016: оперативная память: 1-2 Г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4b4b"/>
                </a:solidFill>
                <a:latin typeface="Arial"/>
                <a:ea typeface="Arial"/>
              </a:rPr>
              <a:t>3-D Maps – геопространственная визуализация доступна теперь и в MS Excel 2016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ель 2016 появилась возможность рукописн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а. Пользоваться ей можно через устройство с сенсорным управлением. Вводить символы можно пальцем или пером, а софт автоматически преобразует их в текст. Если планшет или смартфон отсутствует, вы можете использовать мышку для рукописного ввод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E3DB-109B-497C-BFBC-536B8CB072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29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FA06-9A76-4AF6-8E8B-3435C2BC45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39880" cy="820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манды для работы с электронной таблицей как с базой данны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1472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боте с большими таблицами иногда требуется  найти нужную строку (столбец) или произвести сортировку таблицы. Для реализации таких задач в состав табличного процессора входит группа команд для работы с электронной таблицей как с базой данных. Единственным требованием, которому должны удовлетворять обрабатываемые с помощью таких команд таблицы, является однородность всех входящий в нее строк. Типовыми операциями, которые выполняют данные команды, являются поиск определенных строк и сортировка ст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B14B-8FBC-4F3F-9D22-52805BB71C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0" y="2204640"/>
            <a:ext cx="914400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определенных строк таблицы пользователь задает критерий поиска. Критерий поиска определяет точное значение определенного поля или полей или указывает некоторый диапазон, в котором эти значения находятся. Для построения сложных критериев, сочетающих в себе требования, предъявляемые к нескольким полям, используются логические операторы «ИЛИ» и «И». Задание сложных критериев ограничивает область пои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684F-FF54-42A0-9DA0-EBF72392F4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0" y="642960"/>
            <a:ext cx="914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манды для работы с электронной таблицей как с базой данных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тировка строк таблицы производится по значениям выбранного пользователем столбца, независимо от содержащегося в нем вида данных. По заданному порядку сортировки текстовые данные сортируются по алфавиту или в обратном алфавиту порядке, а числовые данные – в порядке убывания или возрастания. При этом пользователь должен указать «блок сортировки», включающий все сортируемые строки, и «последовательность полей сортиров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рассмотренных типовых операций табличный процессор может иметь ряд специальных, например автоматическое подведение итогов по выделенным группам данных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Заголовок 1"/>
          <p:cNvSpPr/>
          <p:nvPr/>
        </p:nvSpPr>
        <p:spPr>
          <a:xfrm>
            <a:off x="0" y="404640"/>
            <a:ext cx="9144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манды для работы с электронной таблицей как с базой данных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нтекстное мен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EEAF-F695-41FA-AD1B-417BE17874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екстные меню содержат команды, которые применяются наиболее часто 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ыделенным элемента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объек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этих меню завис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текс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ения к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зова контекстного меню необходимо подвести указатель мыши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к элементу или объекту, с которым вы хотите работать, и выполнить щелчок пра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опкой мыши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К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Контекстное мен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3029-EB17-43D6-83C1-4571A08DB2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755640" y="1177920"/>
            <a:ext cx="66596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72"/>
                </a:solidFill>
                <a:latin typeface="Arial"/>
              </a:rPr>
              <a:t>Работа с листами  в </a:t>
            </a:r>
            <a:r>
              <a:rPr b="1" lang="en-US" sz="3800" spc="-1" strike="noStrike">
                <a:solidFill>
                  <a:srgbClr val="000072"/>
                </a:solidFill>
                <a:latin typeface="Arial"/>
              </a:rPr>
              <a:t>Exc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ешки отдельных рабочих листов одной рабочей книги расположены в нижней части экрана (именной указатель листов), по умолчанию они называются «Лист1», «Лист2», «Лист3»; щелкая по ним мышью, можно переходить с одного листа на другой. И корешок активного рабочего стола маркируется белым цве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4F57-2860-4459-B627-4FC0662A46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2"/>
                </a:solidFill>
                <a:latin typeface="Arial"/>
              </a:rPr>
              <a:t>Работа с листами  в </a:t>
            </a:r>
            <a:r>
              <a:rPr b="1" lang="en-US" sz="3600" spc="-1" strike="noStrike">
                <a:solidFill>
                  <a:srgbClr val="000072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ы мо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я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именовы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этих операций удобно выбирать 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текстного мен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нного указателя ли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й лист или рабочую книгу можно защитить от изменений паролем , для этого зайти в мен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ВИС – ЗАЩИТА – ЗАЩИТИТЬ ЛИС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ЩИТИТЬ КНИГ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A253-4544-48CB-8149-23CAA9BB7A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Наталья</cp:lastModifiedBy>
  <dcterms:modified xsi:type="dcterms:W3CDTF">2020-11-24T12:41:13Z</dcterms:modified>
  <cp:revision>1378</cp:revision>
  <dc:subject/>
  <dc:title>Слайд 1</dc:title>
</cp:coreProperties>
</file>