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DFF2B-DFD2-4807-801D-5B8A69C2E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7D84F-E0B1-495D-9A90-F470346A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07DE3-A756-4532-A5B0-684E45EFF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DC2F8-B350-45D2-9BEF-7067B21AD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4911C-64B8-435C-8A0A-C0D1CC70D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A6C7-BD1E-47A3-BC05-0BF04834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0C86-E789-452B-9884-7E8D1D54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3A10-EC71-4706-A18D-C128D399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3923-082B-4A93-8339-1C3D9385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67785-1C31-4DF2-A8C8-E2206578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AD8A-12F3-488C-A2F8-C00E40D3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0DEAF-26E0-4A56-A6CA-DF52E0C7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56D5-F3E1-4E2B-B830-6564474F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9E539-7DC9-4739-B84E-CB8551C9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989D0-0112-4E12-81A7-D2A817EF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45606-DC18-4DC5-B42C-98BDC3726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7FC6-1FF2-4AC2-B652-328C09BCD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E9626-E77D-4D05-9858-D9F006CA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7D528-EA50-4FC1-B51C-F6A45D39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7F934-4BE3-44A5-A7FF-846D957B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A0420-DF7D-4F67-A203-7495C475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0E7ED-B7D1-4C5D-BFCE-F3645DD4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4886F-286D-4A9C-A87F-09DCE817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0A823-D33A-456A-B76B-9CFA9C55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7D31-4B6D-482E-BEEA-A1F80AEE54A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1BA5-84D6-4B98-93E1-0890E663A60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SolidWorks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Прикладное ПО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8945640" y="4266720"/>
            <a:ext cx="46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0" y="6021360"/>
            <a:ext cx="29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ГТУ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федр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иИ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7812000" y="6553080"/>
            <a:ext cx="13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018-201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Arial"/>
              </a:rPr>
              <a:t>ППО специального назна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1128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Electronic Workbench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ставляет собой систему автоматизированного проектирования (САПР). Используется в теоретической подготовке, при выполнении лабораторных работ и проектировании электронных схем, которые будут применяться в реальной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601B-0579-4FE0-B778-A16424CF9D4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EF87-B8FB-4441-A310-ABF55A4EA96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7d"/>
                </a:solidFill>
                <a:latin typeface="Arial"/>
              </a:rPr>
              <a:t>Офисные интегрированные программные средства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и множества интегрированных пакетов программ наиболее распространенным является пакет офисных программ и в частности </a:t>
            </a:r>
            <a:r>
              <a:rPr b="0" lang="ru-RU" sz="2000" spc="-1" strike="noStrike">
                <a:solidFill>
                  <a:srgbClr val="0000bc"/>
                </a:solidFill>
                <a:latin typeface="Arial"/>
              </a:rPr>
              <a:t>Microsoft Offic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 его состав входя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кстовый процессор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Microsoft Wor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ктронные таблицы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Microsoft Exce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кет подготовки и демонстрации презентаци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Microsoft PowerPoi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управления базами данных (СУБД)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Microsoft Acces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FF57-3D6F-4483-A75D-6A1C57F300A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7d"/>
                </a:solidFill>
                <a:latin typeface="Arial"/>
              </a:rPr>
              <a:t>Офисные интегрированные программные средства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численные приложения тесно интегрированы. Это означает, что все программы, входящие в состав </a:t>
            </a:r>
            <a:r>
              <a:rPr b="0" lang="ru-RU" sz="2400" spc="-1" strike="noStrike">
                <a:solidFill>
                  <a:srgbClr val="0000bc"/>
                </a:solidFill>
                <a:latin typeface="Arial"/>
              </a:rPr>
              <a:t>Microsoft Office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меют удобные возможности обмена дан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, если необходимо подготовить финансовый отчет по результатам некоторого периода, содержащий иллюстрации, то данные можно импортировать из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Acc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работать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Exce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строить на их основе графики и диаграммы и затем поместить их в текст документа, который создан в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Wor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риложения </a:t>
            </a:r>
            <a:r>
              <a:rPr b="0" lang="ru-RU" sz="2400" spc="-1" strike="noStrike">
                <a:solidFill>
                  <a:srgbClr val="0000bc"/>
                </a:solidFill>
                <a:latin typeface="Arial"/>
              </a:rPr>
              <a:t>Microsoft Offic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пускают обмен любыми данными между любыми приложе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E890-9E60-4411-A335-55210C6E0CD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Понятие и классификация прикладного П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424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кладное программное обеспеч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ПО) составляют программы конечного пользователя. Это самый обширный класс программного обеспечения. Везде, где производится обработка больших объемов разнообразных данных, или требуется быстрый анализ ситуации с принятием управляющего решения, – компьютеры под управлением прикладного программного обеспечения с успехом заменяют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ПО, классифицируя по назначению, условно можно разделить н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кладные программы общего назнач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кладные программы специального назначения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ификация весьма условна потому, что некоторые типы программ (например, программы, обрабатывающие тексты) имеют своих представителей и в классе общего назначения (редакторы и процессоры) и в классе профессиональных программ (издательские систем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D959-5701-4C22-A32E-F41D731B267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bc"/>
                </a:solidFill>
                <a:latin typeface="Arial"/>
              </a:rPr>
              <a:t>Классификация прикладного П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842472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5"/>
          <p:cNvSpPr/>
          <p:nvPr/>
        </p:nvSpPr>
        <p:spPr>
          <a:xfrm>
            <a:off x="2411280" y="765000"/>
            <a:ext cx="3316320" cy="3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ПО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6"/>
          <p:cNvSpPr/>
          <p:nvPr/>
        </p:nvSpPr>
        <p:spPr>
          <a:xfrm>
            <a:off x="1979640" y="1773360"/>
            <a:ext cx="1800360" cy="58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Программы обработчики текста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7"/>
          <p:cNvSpPr/>
          <p:nvPr/>
        </p:nvSpPr>
        <p:spPr>
          <a:xfrm>
            <a:off x="1979640" y="3284640"/>
            <a:ext cx="1728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ые  табл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8"/>
          <p:cNvSpPr/>
          <p:nvPr/>
        </p:nvSpPr>
        <p:spPr>
          <a:xfrm>
            <a:off x="1927080" y="3705120"/>
            <a:ext cx="1297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Д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9"/>
          <p:cNvSpPr/>
          <p:nvPr/>
        </p:nvSpPr>
        <p:spPr>
          <a:xfrm>
            <a:off x="1979640" y="6308640"/>
            <a:ext cx="208764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водчик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гры, развлечения</a:t>
            </a:r>
            <a:br>
              <a:rPr sz="1400"/>
            </a:b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100"/>
          <p:cNvSpPr/>
          <p:nvPr/>
        </p:nvSpPr>
        <p:spPr>
          <a:xfrm>
            <a:off x="4807080" y="1700280"/>
            <a:ext cx="1440" cy="4551120"/>
          </a:xfrm>
          <a:custGeom>
            <a:avLst/>
            <a:gdLst/>
            <a:ahLst/>
            <a:rect l="l" t="t" r="r" b="b"/>
            <a:pathLst>
              <a:path w="1" h="6028">
                <a:moveTo>
                  <a:pt x="1" y="0"/>
                </a:moveTo>
                <a:lnTo>
                  <a:pt x="0" y="60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01"/>
          <p:cNvSpPr/>
          <p:nvPr/>
        </p:nvSpPr>
        <p:spPr>
          <a:xfrm>
            <a:off x="1839960" y="2130480"/>
            <a:ext cx="10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02"/>
          <p:cNvSpPr/>
          <p:nvPr/>
        </p:nvSpPr>
        <p:spPr>
          <a:xfrm>
            <a:off x="1828800" y="3440160"/>
            <a:ext cx="10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03"/>
          <p:cNvSpPr/>
          <p:nvPr/>
        </p:nvSpPr>
        <p:spPr>
          <a:xfrm>
            <a:off x="1824120" y="3819600"/>
            <a:ext cx="11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04"/>
          <p:cNvSpPr/>
          <p:nvPr/>
        </p:nvSpPr>
        <p:spPr>
          <a:xfrm>
            <a:off x="1828800" y="6765840"/>
            <a:ext cx="10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5"/>
          <p:cNvSpPr/>
          <p:nvPr/>
        </p:nvSpPr>
        <p:spPr>
          <a:xfrm>
            <a:off x="1946160" y="4065480"/>
            <a:ext cx="1297080" cy="45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фические системы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06"/>
          <p:cNvSpPr/>
          <p:nvPr/>
        </p:nvSpPr>
        <p:spPr>
          <a:xfrm>
            <a:off x="1833480" y="4294080"/>
            <a:ext cx="11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07"/>
          <p:cNvSpPr/>
          <p:nvPr/>
        </p:nvSpPr>
        <p:spPr>
          <a:xfrm>
            <a:off x="1979640" y="5734080"/>
            <a:ext cx="1511280" cy="45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грированные системы (офис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08"/>
          <p:cNvSpPr/>
          <p:nvPr/>
        </p:nvSpPr>
        <p:spPr>
          <a:xfrm>
            <a:off x="1828800" y="6000840"/>
            <a:ext cx="10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09"/>
          <p:cNvSpPr/>
          <p:nvPr/>
        </p:nvSpPr>
        <p:spPr>
          <a:xfrm flipH="1">
            <a:off x="2517840" y="1106640"/>
            <a:ext cx="137304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10"/>
          <p:cNvSpPr/>
          <p:nvPr/>
        </p:nvSpPr>
        <p:spPr>
          <a:xfrm>
            <a:off x="4398840" y="1106640"/>
            <a:ext cx="137160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111"/>
          <p:cNvSpPr/>
          <p:nvPr/>
        </p:nvSpPr>
        <p:spPr>
          <a:xfrm>
            <a:off x="1835280" y="1557360"/>
            <a:ext cx="6120" cy="5086440"/>
          </a:xfrm>
          <a:custGeom>
            <a:avLst/>
            <a:gdLst/>
            <a:ahLst/>
            <a:rect l="l" t="t" r="r" b="b"/>
            <a:pathLst>
              <a:path w="10" h="8046">
                <a:moveTo>
                  <a:pt x="10" y="0"/>
                </a:moveTo>
                <a:lnTo>
                  <a:pt x="0" y="804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2"/>
          <p:cNvSpPr/>
          <p:nvPr/>
        </p:nvSpPr>
        <p:spPr>
          <a:xfrm>
            <a:off x="2195640" y="2421000"/>
            <a:ext cx="1800000" cy="3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стовые редакторы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13"/>
          <p:cNvSpPr/>
          <p:nvPr/>
        </p:nvSpPr>
        <p:spPr>
          <a:xfrm>
            <a:off x="2098800" y="2700360"/>
            <a:ext cx="11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114"/>
          <p:cNvSpPr/>
          <p:nvPr/>
        </p:nvSpPr>
        <p:spPr>
          <a:xfrm>
            <a:off x="2097000" y="2359080"/>
            <a:ext cx="1800" cy="714240"/>
          </a:xfrm>
          <a:custGeom>
            <a:avLst/>
            <a:gdLst/>
            <a:ahLst/>
            <a:rect l="l" t="t" r="r" b="b"/>
            <a:pathLst>
              <a:path w="2" h="1131">
                <a:moveTo>
                  <a:pt x="2" y="0"/>
                </a:moveTo>
                <a:lnTo>
                  <a:pt x="0" y="113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5"/>
          <p:cNvSpPr/>
          <p:nvPr/>
        </p:nvSpPr>
        <p:spPr>
          <a:xfrm>
            <a:off x="2195640" y="2852640"/>
            <a:ext cx="187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стовые процессоры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16"/>
          <p:cNvSpPr/>
          <p:nvPr/>
        </p:nvSpPr>
        <p:spPr>
          <a:xfrm>
            <a:off x="2095560" y="3070080"/>
            <a:ext cx="10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17"/>
          <p:cNvSpPr/>
          <p:nvPr/>
        </p:nvSpPr>
        <p:spPr>
          <a:xfrm>
            <a:off x="2066760" y="4521240"/>
            <a:ext cx="3240" cy="923760"/>
          </a:xfrm>
          <a:custGeom>
            <a:avLst/>
            <a:gdLst/>
            <a:ahLst/>
            <a:rect l="l" t="t" r="r" b="b"/>
            <a:pathLst>
              <a:path w="6" h="1461">
                <a:moveTo>
                  <a:pt x="6" y="0"/>
                </a:moveTo>
                <a:lnTo>
                  <a:pt x="0" y="146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8"/>
          <p:cNvSpPr/>
          <p:nvPr/>
        </p:nvSpPr>
        <p:spPr>
          <a:xfrm>
            <a:off x="2195640" y="4653000"/>
            <a:ext cx="1512720" cy="45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дакторы векторной график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19"/>
          <p:cNvSpPr/>
          <p:nvPr/>
        </p:nvSpPr>
        <p:spPr>
          <a:xfrm>
            <a:off x="2070000" y="4862520"/>
            <a:ext cx="10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20"/>
          <p:cNvSpPr/>
          <p:nvPr/>
        </p:nvSpPr>
        <p:spPr>
          <a:xfrm>
            <a:off x="2195640" y="5229360"/>
            <a:ext cx="1512720" cy="45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дакторы растровой  график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21"/>
          <p:cNvSpPr/>
          <p:nvPr/>
        </p:nvSpPr>
        <p:spPr>
          <a:xfrm>
            <a:off x="2070000" y="5435640"/>
            <a:ext cx="10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22"/>
          <p:cNvSpPr/>
          <p:nvPr/>
        </p:nvSpPr>
        <p:spPr>
          <a:xfrm>
            <a:off x="4927680" y="1874880"/>
            <a:ext cx="2020680" cy="45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Программы обработчики текста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3"/>
          <p:cNvSpPr/>
          <p:nvPr/>
        </p:nvSpPr>
        <p:spPr>
          <a:xfrm>
            <a:off x="4815000" y="2101680"/>
            <a:ext cx="10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4"/>
          <p:cNvSpPr/>
          <p:nvPr/>
        </p:nvSpPr>
        <p:spPr>
          <a:xfrm>
            <a:off x="5219640" y="2421000"/>
            <a:ext cx="187164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ательские системы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25"/>
          <p:cNvSpPr/>
          <p:nvPr/>
        </p:nvSpPr>
        <p:spPr>
          <a:xfrm>
            <a:off x="5076720" y="2637000"/>
            <a:ext cx="10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26"/>
          <p:cNvSpPr/>
          <p:nvPr/>
        </p:nvSpPr>
        <p:spPr>
          <a:xfrm>
            <a:off x="5065560" y="2330280"/>
            <a:ext cx="1800" cy="714600"/>
          </a:xfrm>
          <a:custGeom>
            <a:avLst/>
            <a:gdLst/>
            <a:ahLst/>
            <a:rect l="l" t="t" r="r" b="b"/>
            <a:pathLst>
              <a:path w="2" h="1131">
                <a:moveTo>
                  <a:pt x="2" y="0"/>
                </a:moveTo>
                <a:lnTo>
                  <a:pt x="0" y="113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27"/>
          <p:cNvSpPr/>
          <p:nvPr/>
        </p:nvSpPr>
        <p:spPr>
          <a:xfrm>
            <a:off x="5172120" y="2852640"/>
            <a:ext cx="184788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зированные текстовые редакторы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28"/>
          <p:cNvSpPr/>
          <p:nvPr/>
        </p:nvSpPr>
        <p:spPr>
          <a:xfrm>
            <a:off x="5062680" y="3041640"/>
            <a:ext cx="11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9"/>
          <p:cNvSpPr/>
          <p:nvPr/>
        </p:nvSpPr>
        <p:spPr>
          <a:xfrm>
            <a:off x="4932360" y="3429000"/>
            <a:ext cx="2016000" cy="52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Д информационных систем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30"/>
          <p:cNvSpPr/>
          <p:nvPr/>
        </p:nvSpPr>
        <p:spPr>
          <a:xfrm>
            <a:off x="4803840" y="3716280"/>
            <a:ext cx="11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31"/>
          <p:cNvSpPr/>
          <p:nvPr/>
        </p:nvSpPr>
        <p:spPr>
          <a:xfrm>
            <a:off x="4908600" y="4084560"/>
            <a:ext cx="2111400" cy="77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грированные пакеты специализированные (математические, офисные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32"/>
          <p:cNvSpPr/>
          <p:nvPr/>
        </p:nvSpPr>
        <p:spPr>
          <a:xfrm>
            <a:off x="4803840" y="4462560"/>
            <a:ext cx="111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33"/>
          <p:cNvSpPr/>
          <p:nvPr/>
        </p:nvSpPr>
        <p:spPr>
          <a:xfrm>
            <a:off x="4917960" y="5951520"/>
            <a:ext cx="1295640" cy="59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АПР, АРМ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СНИИ и др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34"/>
          <p:cNvSpPr/>
          <p:nvPr/>
        </p:nvSpPr>
        <p:spPr>
          <a:xfrm>
            <a:off x="4805280" y="6245280"/>
            <a:ext cx="10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35"/>
          <p:cNvSpPr/>
          <p:nvPr/>
        </p:nvSpPr>
        <p:spPr>
          <a:xfrm>
            <a:off x="1547640" y="1268280"/>
            <a:ext cx="2340000" cy="3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ПО общего назначен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36"/>
          <p:cNvSpPr/>
          <p:nvPr/>
        </p:nvSpPr>
        <p:spPr>
          <a:xfrm>
            <a:off x="4572000" y="1268280"/>
            <a:ext cx="2340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ПО специального назначен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37"/>
          <p:cNvSpPr/>
          <p:nvPr/>
        </p:nvSpPr>
        <p:spPr>
          <a:xfrm>
            <a:off x="4932360" y="5157720"/>
            <a:ext cx="1727280" cy="59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информацион-ные системы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38"/>
          <p:cNvSpPr/>
          <p:nvPr/>
        </p:nvSpPr>
        <p:spPr>
          <a:xfrm>
            <a:off x="4815000" y="5437080"/>
            <a:ext cx="10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39"/>
          <p:cNvSpPr/>
          <p:nvPr/>
        </p:nvSpPr>
        <p:spPr>
          <a:xfrm flipV="1">
            <a:off x="1835280" y="652464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CC30-CEC3-4802-92D8-CC58B397CA6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Прикладное программное обеспечение общего назначен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граммы, обрабатывающие текс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ним относятся </a:t>
            </a:r>
            <a:r>
              <a:rPr b="0" i="1" lang="ru-RU" sz="2400" spc="-1" strike="noStrike">
                <a:solidFill>
                  <a:srgbClr val="0000bc"/>
                </a:solidFill>
                <a:latin typeface="Arial"/>
              </a:rPr>
              <a:t>текстовые редакторы, текстовые процессо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Граница между ними весьма условна. Текстовые редакторы (Блокнот разработ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способны выполнять основные функции редактирования: набор, внесение исправлений, сохранение, работа с фрагмент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стовые процессоры (Word разработ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кроме того, имеют возможности разнообразного оформления, а некоторые позволяют создавать документы, предназначенные для просмотра не в бумажном виде, а на компьютере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лектронные докум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4F52-7D75-4288-B6CD-457DA6FE669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Прикладное программное обеспечение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218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уровне специального ППО, программы, обрабатывающие тексты, представлены специализированными текстовыми редакторами (например,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X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и </a:t>
            </a:r>
            <a:r>
              <a:rPr b="0" i="1" lang="ru-RU" sz="2600" spc="-1" strike="noStrike">
                <a:solidFill>
                  <a:srgbClr val="0000bc"/>
                </a:solidFill>
                <a:latin typeface="Arial"/>
              </a:rPr>
              <a:t>издательскими системам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которые автоматизируют процесс верстки полиграфических изданий, например</a:t>
            </a:r>
            <a:r>
              <a:rPr b="0" lang="ru-RU" sz="2600" spc="-1" strike="noStrike">
                <a:solidFill>
                  <a:srgbClr val="0000bc"/>
                </a:solidFill>
                <a:latin typeface="Arial"/>
              </a:rPr>
              <a:t> Adobe PageMak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Электронные таблицы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Основное назначение электронных таблиц – обработка различных типов данных, представляющихся в табличной форме, например, планово-финансовые, бухгалтерские документы, небольшие инженерные расчеты (Excel разработка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crosoft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A0C2-AF2C-4CDE-B5E6-59DCA99FE3B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Прикладное программное обеспечение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истемы управления базами данных (СУБД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граммы этого класса (Access разработ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позволяют пользователям работать с большими объемами структурированных данных - базами данных (как правило, это табличные структуры)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уровне ППО общего назначения - это настольные СУБД, на уровне специальном - это большие СУБД, составляющие основу информационных систем, позволяющие работать в компьютерных сет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Графические системы.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программы, предназначенные для работы с графическими изображениями. К ним относятся редакторы растровой и векторной графики, программы обработки трехмерной графики (</a:t>
            </a:r>
            <a:r>
              <a:rPr b="0" lang="ru-RU" sz="2600" spc="-1" strike="noStrike">
                <a:solidFill>
                  <a:srgbClr val="0000bc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bc"/>
                </a:solidFill>
                <a:latin typeface="Arial"/>
              </a:rPr>
              <a:t>D</a:t>
            </a:r>
            <a:r>
              <a:rPr b="0" lang="ru-RU" sz="2600" spc="-1" strike="noStrike">
                <a:solidFill>
                  <a:srgbClr val="0000bc"/>
                </a:solidFill>
                <a:latin typeface="Arial"/>
              </a:rPr>
              <a:t>- редактор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41AD-9A3C-4142-B6E9-32DB1D8A5E7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Прикладное программное обеспечение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нтегрированные программные средств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0" i="1" lang="ru-RU" sz="2600" spc="-1" strike="noStrike">
                <a:solidFill>
                  <a:srgbClr val="0000bc"/>
                </a:solidFill>
                <a:latin typeface="Arial"/>
              </a:rPr>
              <a:t>интегрированными ПС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удем понимать набор нескольких программных продуктов, функционально дополняющих друг друг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 поддерживающих единые информационные технолог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иболее распространенный продукт в этого класса – пакет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S Office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разработка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crosoft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, который кроме текстового процессора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Word, табличного процессора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Excel и СУБД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S Access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нтегрирует в себе такие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офисные программные средства,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как система разработки презентаций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S Power Point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и др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0760-C695-4C06-81CC-EEDC67CD9CB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Прикладное программное обеспечение специального назначен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ПО специального назначения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шает более узкие задачи, а также задачи профессионального характера в различных предметных областях.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Информационные систем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ИС), предоставляющие широкие возможности 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управлении предприятие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это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склад, документооборот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фис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бухгалтерском учет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это системы, имеющие функции текстовых, табличных редакторов и СУБД. Предназначены для автоматизации подготовки начальных бухгалтерских документов предприятия и их учета, регулярных отчетов по итогам производственной, хозяйственной и финансовой деятельности в форме, приемлемой для налоговых органов и органов статистического учет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анализе экономической и финансовой деятельности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х используют в банковских и биржевых структурах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F3C8-DA86-4C52-BA8B-FDEA766E601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Прикладное программное обеспечение специального назначен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истемы автоматизированного проектирования </a:t>
            </a:r>
            <a:r>
              <a:rPr b="1" i="1" lang="ru-RU" sz="2800" spc="-1" strike="noStrike">
                <a:solidFill>
                  <a:srgbClr val="0000bc"/>
                </a:solidFill>
                <a:latin typeface="Arial"/>
              </a:rPr>
              <a:t>(САПР)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едназначены для </a:t>
            </a:r>
            <a:r>
              <a:rPr b="0" i="1" lang="ru-RU" sz="2800" spc="-1" strike="noStrike">
                <a:solidFill>
                  <a:srgbClr val="0000bc"/>
                </a:solidFill>
                <a:latin typeface="Arial"/>
              </a:rPr>
              <a:t>автоматизации процессов производства и конструирова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рименяются в машиностроении, строительстве, архитектур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и позволяют создавать чертежную документацию, адаптированную в конкретной предметной области, а также имеют справочники, средства проведения расч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: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SolidWork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универсальная САПР для машиностроени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00:08:01Z</dcterms:created>
  <dc:creator>TPLX</dc:creator>
  <dc:description/>
  <dc:language>en-US</dc:language>
  <cp:lastModifiedBy>Наталья</cp:lastModifiedBy>
  <dcterms:modified xsi:type="dcterms:W3CDTF">2020-11-20T13:04:47Z</dcterms:modified>
  <cp:revision>1281</cp:revision>
  <dc:subject/>
  <dc:title>Слайд 1</dc:title>
</cp:coreProperties>
</file>